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26.jpeg" ContentType="image/jpeg"/>
  <Override PartName="/ppt/media/image42.png" ContentType="image/png"/>
  <Override PartName="/ppt/media/image11.png" ContentType="image/png"/>
  <Override PartName="/ppt/media/image9.jpeg" ContentType="image/jpeg"/>
  <Override PartName="/ppt/media/image40.png" ContentType="image/png"/>
  <Override PartName="/ppt/media/image51.png" ContentType="image/png"/>
  <Override PartName="/ppt/media/image4.jpeg" ContentType="image/jpeg"/>
  <Override PartName="/ppt/media/image5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63.png" ContentType="image/png"/>
  <Override PartName="/ppt/media/image31.png" ContentType="image/png"/>
  <Override PartName="/ppt/media/image1.png" ContentType="image/png"/>
  <Override PartName="/ppt/media/image8.jpeg" ContentType="image/jpeg"/>
  <Override PartName="/ppt/media/image38.png" ContentType="image/png"/>
  <Override PartName="/ppt/media/image21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22.jpeg" ContentType="image/jpeg"/>
  <Override PartName="/ppt/media/image60.png" ContentType="image/png"/>
  <Override PartName="/ppt/media/image65.jpeg" ContentType="image/jpeg"/>
  <Override PartName="/ppt/media/image49.png" ContentType="image/png"/>
  <Override PartName="/ppt/media/image23.jpeg" ContentType="image/jpeg"/>
  <Override PartName="/ppt/media/image24.jpeg" ContentType="image/jpeg"/>
  <Override PartName="/ppt/media/image59.png" ContentType="image/png"/>
  <Override PartName="/ppt/media/image18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28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19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jpeg" ContentType="image/jpeg"/>
  <Override PartName="/ppt/media/image44.png" ContentType="image/png"/>
  <Override PartName="/ppt/media/image27.jpeg" ContentType="image/jpeg"/>
  <Override PartName="/ppt/media/image52.png" ContentType="image/png"/>
  <Override PartName="/ppt/media/image35.jpeg" ContentType="image/jpeg"/>
  <Override PartName="/ppt/media/image47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37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18148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3960" cy="25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700680" cy="30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6"/>
          </p:nvPr>
        </p:nvSpPr>
        <p:spPr>
          <a:xfrm>
            <a:off x="5181480" y="6514920"/>
            <a:ext cx="39578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7A97C-2EB6-44EB-A526-89B93E0AC2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A17DE-888D-49A5-9DD9-959F28E49C7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2D2CD-E5A9-4113-B0E9-C813C2028F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B0C49-A27A-4C20-96DA-2529CE07F4B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C7CF6-FE7D-4636-B34A-D10B20B61B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2B73E-3974-4790-A6F3-F699109F05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248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38A86-8256-4BF1-AC8D-5AE00108EA0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D2572-E926-4DFD-9C46-E7D6883151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BE5DD-D091-43DE-98D5-9D3ECF09A1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248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C6E8E-BCC3-4928-A2D1-B4A7275ED2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F0E6-6BC5-47F4-AE03-39F668F06B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F914D-273D-40F4-9A67-197F759049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5C62F-37BC-40E8-B20B-9B18F850A20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43E93-404C-4953-AC36-96445865CB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5EA4F-4E19-4055-B057-C841BCB88AA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91EEC-674D-4A52-9F5E-AE0DD5B239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CFD92-1331-4759-9C5E-3508D7E55B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4C897-A4E2-4D10-BC51-100A73EF69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82A5E-B6F0-45E0-AC20-A7EEB9F24F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8C65-F431-4EB2-A210-1CBA76B14F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54DBB-EC47-40E4-A876-82A0B25459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81E9C-4555-4E6F-8B0C-91C85B4413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5C43A-BD83-44F4-99D8-BE025B1E86A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62DD8-D5E7-4257-B457-796E641D68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8D13E-448A-43CE-B6CD-3FCC395B82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CA1F1-57FD-40B6-8BFE-EF1EEB8DCD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C26F0-9443-44A0-BC49-F33585A064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07A43-375B-4F4C-B0A5-264D44E67DA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877A4-E6B0-4B89-B2AF-2674CAACC8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155DE-4EBF-4CA6-86FF-621852685C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E169F-89D3-4646-A1AB-052DCD9367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66514-1111-422D-98B0-9B69034608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EA837-11DE-4E26-A583-C1B5156E54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2480" cy="30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5181480" y="6515280"/>
            <a:ext cx="3957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3E30B-8781-4B95-9FF9-E9AD556E5E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5181480" y="6515280"/>
            <a:ext cx="3959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84962-5500-4DE5-AEB7-7F1FE850B04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72827-E4B4-4B13-A3BC-1F7F9ECF1A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6B91-DEAE-4615-AF99-56730812B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F471-0BF9-45E5-A7C7-A9A7BF717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C306-5846-4FD1-9BE1-B5FD22D37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0A2D-A616-466D-9AC7-BC6555FA9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EEFDA-1C51-403E-881F-108D7361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8622D-F630-4688-B765-6088B388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8527C-2F5F-41DB-A596-C7B43BFE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FFD81-D060-4BA3-A063-49E4094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EBBAB-EDB7-440D-81FF-38BF3C11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51FE7-A4D9-43AA-8BED-022DBF9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678B1-76F6-42FC-A4B7-27A28AB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AC21-B474-4DEB-9FAF-843D6BC3F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1614C-26BC-468E-AC9F-30B2698C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C535B-3D7A-4315-8764-A9611F7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2EFCF-2607-4791-8DCC-DADF1245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C9D91-D1AD-45AD-B9BC-151B2A67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A851F-763E-4544-BF13-FF304E3A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04F59-5695-4C90-8914-6D51E17FC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5F77-5A01-4CE8-B213-EBF077931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A0DD-9599-4C8D-8E5E-DF1272713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9D00-28E0-4627-A70D-0FA339EE6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A5EC-F452-4C0A-AE78-91B8BAC37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8D1B-0AC2-403F-8816-3D7E09DAB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1695-90BA-4DE2-A865-5E63B6CB1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2840"/>
            <a:ext cx="58752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307200"/>
            <a:ext cx="2890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29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A370CC-343F-41F8-A2BF-7A671E6DFB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E078BA-E7FD-4C18-B8A8-39F18BD1FA37}" type="datetime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9DA4BF-A2B5-47FC-9989-A7CDCBF4A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ial.usal.es/" TargetMode="External"/><Relationship Id="rId2" Type="http://schemas.openxmlformats.org/officeDocument/2006/relationships/hyperlink" Target="http://www.facebook.com/grialusal" TargetMode="External"/><Relationship Id="rId3" Type="http://schemas.openxmlformats.org/officeDocument/2006/relationships/hyperlink" Target="http://twitter.com/grial_usal" TargetMode="External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6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image" Target="../media/image29.jpeg"/><Relationship Id="rId15" Type="http://schemas.openxmlformats.org/officeDocument/2006/relationships/image" Target="../media/image30.jpeg"/><Relationship Id="rId16" Type="http://schemas.openxmlformats.org/officeDocument/2006/relationships/image" Target="../media/image31.png"/><Relationship Id="rId17" Type="http://schemas.openxmlformats.org/officeDocument/2006/relationships/image" Target="../media/image4.jpe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11.png"/><Relationship Id="rId22" Type="http://schemas.openxmlformats.org/officeDocument/2006/relationships/image" Target="../media/image35.jpeg"/><Relationship Id="rId23" Type="http://schemas.openxmlformats.org/officeDocument/2006/relationships/image" Target="../media/image36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13.jpeg"/><Relationship Id="rId28" Type="http://schemas.openxmlformats.org/officeDocument/2006/relationships/image" Target="../media/image9.jpeg"/><Relationship Id="rId29" Type="http://schemas.openxmlformats.org/officeDocument/2006/relationships/image" Target="../media/image40.png"/><Relationship Id="rId30" Type="http://schemas.openxmlformats.org/officeDocument/2006/relationships/image" Target="../media/image41.png"/><Relationship Id="rId31" Type="http://schemas.openxmlformats.org/officeDocument/2006/relationships/image" Target="../media/image42.png"/><Relationship Id="rId32" Type="http://schemas.openxmlformats.org/officeDocument/2006/relationships/image" Target="../media/image43.png"/><Relationship Id="rId33" Type="http://schemas.openxmlformats.org/officeDocument/2006/relationships/image" Target="../media/image44.png"/><Relationship Id="rId34" Type="http://schemas.openxmlformats.org/officeDocument/2006/relationships/image" Target="../media/image45.png"/><Relationship Id="rId35" Type="http://schemas.openxmlformats.org/officeDocument/2006/relationships/image" Target="../media/image46.png"/><Relationship Id="rId36" Type="http://schemas.openxmlformats.org/officeDocument/2006/relationships/image" Target="../media/image47.png"/><Relationship Id="rId37" Type="http://schemas.openxmlformats.org/officeDocument/2006/relationships/image" Target="../media/image48.jpeg"/><Relationship Id="rId38" Type="http://schemas.openxmlformats.org/officeDocument/2006/relationships/image" Target="../media/image49.png"/><Relationship Id="rId39" Type="http://schemas.openxmlformats.org/officeDocument/2006/relationships/image" Target="../media/image50.png"/><Relationship Id="rId40" Type="http://schemas.openxmlformats.org/officeDocument/2006/relationships/image" Target="../media/image51.png"/><Relationship Id="rId41" Type="http://schemas.openxmlformats.org/officeDocument/2006/relationships/image" Target="../media/image52.png"/><Relationship Id="rId42" Type="http://schemas.openxmlformats.org/officeDocument/2006/relationships/image" Target="../media/image53.png"/><Relationship Id="rId43" Type="http://schemas.openxmlformats.org/officeDocument/2006/relationships/image" Target="../media/image10.png"/><Relationship Id="rId44" Type="http://schemas.openxmlformats.org/officeDocument/2006/relationships/image" Target="../media/image54.png"/><Relationship Id="rId45" Type="http://schemas.openxmlformats.org/officeDocument/2006/relationships/image" Target="../media/image55.png"/><Relationship Id="rId46" Type="http://schemas.openxmlformats.org/officeDocument/2006/relationships/image" Target="../media/image56.png"/><Relationship Id="rId47" Type="http://schemas.openxmlformats.org/officeDocument/2006/relationships/image" Target="../media/image57.png"/><Relationship Id="rId48" Type="http://schemas.openxmlformats.org/officeDocument/2006/relationships/image" Target="../media/image58.png"/><Relationship Id="rId49" Type="http://schemas.openxmlformats.org/officeDocument/2006/relationships/image" Target="../media/image59.png"/><Relationship Id="rId50" Type="http://schemas.openxmlformats.org/officeDocument/2006/relationships/image" Target="../media/image60.png"/><Relationship Id="rId51" Type="http://schemas.openxmlformats.org/officeDocument/2006/relationships/image" Target="../media/image61.png"/><Relationship Id="rId52" Type="http://schemas.openxmlformats.org/officeDocument/2006/relationships/image" Target="../media/image62.png"/><Relationship Id="rId53" Type="http://schemas.openxmlformats.org/officeDocument/2006/relationships/slideLayout" Target="../slideLayouts/slideLayout13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3.png"/><Relationship Id="rId3" Type="http://schemas.openxmlformats.org/officeDocument/2006/relationships/image" Target="../media/image6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09480" y="4419720"/>
            <a:ext cx="79250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r. Francisco José García Peñalv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partment of Informatics and Automatic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earch Institute of Educational Scienc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ty of Salamanc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ad of the Research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149560" y="1905120"/>
            <a:ext cx="4755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Virtual University U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IAL group lead the implementation of the Virtual University in the U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mplementation of new virtual cam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thodological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igital contents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IAL cont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http://grial.usal.es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http://www.facebook.com/grialusal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630000"/>
                </a:solidFill>
                <a:uFillTx/>
                <a:latin typeface="Tahoma"/>
                <a:hlinkClick r:id="rId3"/>
              </a:rPr>
              <a:t>http://twitter.com/grial_usal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4"/>
          <a:stretch/>
        </p:blipFill>
        <p:spPr>
          <a:xfrm>
            <a:off x="6219720" y="170496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609480" y="4419720"/>
            <a:ext cx="79250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r. Francisco José García Peñalv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partment of Informatics and Automatic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earch Institute of Educational Sciences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ty of Salamanca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ead of the Research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2149560" y="1905120"/>
            <a:ext cx="47559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sentation (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The research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GR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oup i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nter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ction and e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earning (GRIAL) is born at the University of Salamanca in response to the need of establishing stable and officially recognised research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804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disciplinary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composed of permanent members from different field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Computer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Classic Languages, Rethoric and Communication The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Philosophy, Pedagogy and Educational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Law, Economics, Social Sci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[…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sentation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national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with researchers in different countries of Europe and Latin Ame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generational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where the expertise of internationally recognised reserchers joins the enthusiasm of young researchers and Ph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n </a:t>
            </a:r>
            <a:r>
              <a:rPr b="1" lang="es-ES" sz="2000" spc="-1" strike="noStrike">
                <a:solidFill>
                  <a:srgbClr val="630000"/>
                </a:solidFill>
                <a:latin typeface="Tahoma"/>
              </a:rPr>
              <a:t>intercorporate</a:t>
            </a: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 group, where the academic world meets business and public instit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10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630000"/>
                </a:solidFill>
                <a:latin typeface="Tahoma"/>
              </a:rPr>
              <a:t>It is a research group, but it carries out many more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10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R&amp;D&amp;i G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10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GRIAL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8320" indent="-223920" algn="just">
              <a:lnSpc>
                <a:spcPct val="10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GRIA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104760"/>
            <a:ext cx="5880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ur research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57200" y="14954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700" spc="-1" strike="noStrike">
                <a:solidFill>
                  <a:srgbClr val="630000"/>
                </a:solidFill>
                <a:latin typeface="Tahoma"/>
              </a:rPr>
              <a:t>Our group has a considerable amount of funded research projects, both national and international, such as the follow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700" spc="-1" strike="noStrike">
                <a:solidFill>
                  <a:srgbClr val="630000"/>
                </a:solidFill>
                <a:latin typeface="Tahoma"/>
              </a:rPr>
              <a:t>Our main research interes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Human-Computer Interac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eLearning (</a:t>
            </a:r>
            <a:r>
              <a:rPr b="0" lang="es-ES" sz="1500" spc="-1" strike="noStrike">
                <a:solidFill>
                  <a:srgbClr val="a6a6a6"/>
                </a:solidFill>
                <a:latin typeface="Symbol"/>
                <a:ea typeface="Symbol"/>
              </a:rPr>
              <a:t></a:t>
            </a: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Learning – Web-based education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Software Enginee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Elearning Methodology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Communication Theory and Dynamic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Online Tutorin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Semantic Web and adaptive multimedia syste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57400" indent="-22716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[…]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1324080" cy="138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936720" cy="153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858000" y="2414520"/>
            <a:ext cx="1600200" cy="959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/>
          <a:stretch/>
        </p:blipFill>
        <p:spPr>
          <a:xfrm>
            <a:off x="4648320" y="2362320"/>
            <a:ext cx="2057400" cy="101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5"/>
          <a:stretch/>
        </p:blipFill>
        <p:spPr>
          <a:xfrm>
            <a:off x="2819520" y="2286000"/>
            <a:ext cx="1690560" cy="114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6"/>
          <a:stretch/>
        </p:blipFill>
        <p:spPr>
          <a:xfrm>
            <a:off x="6705720" y="3581280"/>
            <a:ext cx="1828800" cy="126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7"/>
          <a:stretch/>
        </p:blipFill>
        <p:spPr>
          <a:xfrm>
            <a:off x="5867280" y="4952880"/>
            <a:ext cx="2762280" cy="56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1"/>
          <p:cNvSpPr/>
          <p:nvPr/>
        </p:nvSpPr>
        <p:spPr>
          <a:xfrm>
            <a:off x="3125520" y="3352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90"/>
                </a:solidFill>
                <a:latin typeface="Arial"/>
              </a:rPr>
              <a:t>Interr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ial R&amp;D&amp;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630000"/>
                </a:solidFill>
                <a:latin typeface="Tahoma"/>
              </a:rPr>
              <a:t>Our group has developed R&amp;D&amp;i activies in cooperation with companies and has cooperation agreements with different technologica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of software products and resear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Solutions for Public Administ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963800" indent="-22392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and improvement of their eLearning products</a:t>
            </a:r>
            <a:r>
              <a:rPr b="0" lang="es-ES" sz="18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2382840" indent="-22392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of the platform (forums and user intera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2382840" indent="-22392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a6a6a6"/>
                </a:solidFill>
                <a:latin typeface="Tahoma"/>
                <a:ea typeface="ＭＳ Ｐゴシック"/>
              </a:rPr>
              <a:t>Development of new funcionalities (work in progress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62120" y="4967280"/>
            <a:ext cx="1492200" cy="376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255680" cy="56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934920" cy="9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Our teaching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858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University M.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Lifelong learning diplom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Short specialised cour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630000"/>
                </a:solidFill>
                <a:latin typeface="Tahoma"/>
              </a:rPr>
              <a:t>On-demand cour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954080" y="2057400"/>
            <a:ext cx="962280" cy="762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3267000" y="205740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M.A. in </a:t>
            </a:r>
            <a:r>
              <a:rPr b="0" i="1" lang="es-ES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050280" y="3276720"/>
            <a:ext cx="37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Tutor </a:t>
            </a:r>
            <a:r>
              <a:rPr b="0" i="1" lang="es-ES" sz="2400" spc="-1" strike="noStrike">
                <a:solidFill>
                  <a:srgbClr val="630000"/>
                </a:solidFill>
                <a:latin typeface="Arial"/>
              </a:rPr>
              <a:t>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http://www.tutoron-line.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1976400" y="327672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2038320" y="4495680"/>
            <a:ext cx="90324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3458880" y="4495680"/>
            <a:ext cx="488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Specialization profiles in </a:t>
            </a:r>
            <a:r>
              <a:rPr b="0" i="1" lang="es-ES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127080"/>
            <a:ext cx="58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85800" y="1197000"/>
            <a:ext cx="8229600" cy="485604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Softwar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Consu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Learning Objects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Instruction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Virtual Campus Implementation &amp; Mainte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eLearning/portal 2.0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Personal Learning Environments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mLearning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57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30000"/>
                </a:solidFill>
                <a:latin typeface="Tahoma"/>
              </a:rPr>
              <a:t>[…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76320"/>
            <a:ext cx="58802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GRIAL works with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2976480" y="64533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4080" y="683244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1766880" cy="542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039680" cy="1035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1224000" cy="57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3048120" y="1905120"/>
            <a:ext cx="1224000" cy="8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5"/>
          <a:stretch/>
        </p:blipFill>
        <p:spPr>
          <a:xfrm>
            <a:off x="4340160" y="1981080"/>
            <a:ext cx="1374840" cy="59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6"/>
          <a:stretch/>
        </p:blipFill>
        <p:spPr>
          <a:xfrm>
            <a:off x="5805360" y="2286000"/>
            <a:ext cx="1281240" cy="698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"/>
          <p:cNvPicPr/>
          <p:nvPr/>
        </p:nvPicPr>
        <p:blipFill>
          <a:blip r:embed="rId7"/>
          <a:stretch/>
        </p:blipFill>
        <p:spPr>
          <a:xfrm>
            <a:off x="152280" y="2819520"/>
            <a:ext cx="1198800" cy="71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8"/>
          <a:stretch/>
        </p:blipFill>
        <p:spPr>
          <a:xfrm>
            <a:off x="6553080" y="4191120"/>
            <a:ext cx="809640" cy="761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9"/>
          <a:stretch/>
        </p:blipFill>
        <p:spPr>
          <a:xfrm>
            <a:off x="1447920" y="3429000"/>
            <a:ext cx="1800000" cy="54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10"/>
          <a:stretch/>
        </p:blipFill>
        <p:spPr>
          <a:xfrm>
            <a:off x="3276720" y="3284640"/>
            <a:ext cx="1216080" cy="77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11"/>
          <a:stretch/>
        </p:blipFill>
        <p:spPr>
          <a:xfrm>
            <a:off x="1752480" y="4044960"/>
            <a:ext cx="1443240" cy="45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12"/>
          <a:stretch/>
        </p:blipFill>
        <p:spPr>
          <a:xfrm>
            <a:off x="3276720" y="3873600"/>
            <a:ext cx="1303200" cy="6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13"/>
          <a:stretch/>
        </p:blipFill>
        <p:spPr>
          <a:xfrm>
            <a:off x="5943600" y="3733920"/>
            <a:ext cx="571680" cy="74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14"/>
          <a:stretch/>
        </p:blipFill>
        <p:spPr>
          <a:xfrm>
            <a:off x="1830240" y="213372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"/>
          <p:cNvPicPr/>
          <p:nvPr/>
        </p:nvPicPr>
        <p:blipFill>
          <a:blip r:embed="rId15"/>
          <a:stretch/>
        </p:blipFill>
        <p:spPr>
          <a:xfrm>
            <a:off x="2362320" y="4538520"/>
            <a:ext cx="2022480" cy="6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"/>
          <p:cNvPicPr/>
          <p:nvPr/>
        </p:nvPicPr>
        <p:blipFill>
          <a:blip r:embed="rId16"/>
          <a:stretch/>
        </p:blipFill>
        <p:spPr>
          <a:xfrm>
            <a:off x="7086600" y="2362320"/>
            <a:ext cx="1979640" cy="61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"/>
          <p:cNvPicPr/>
          <p:nvPr/>
        </p:nvPicPr>
        <p:blipFill>
          <a:blip r:embed="rId17"/>
          <a:stretch/>
        </p:blipFill>
        <p:spPr>
          <a:xfrm>
            <a:off x="7391520" y="4038480"/>
            <a:ext cx="920520" cy="965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"/>
          <p:cNvPicPr/>
          <p:nvPr/>
        </p:nvPicPr>
        <p:blipFill>
          <a:blip r:embed="rId18"/>
          <a:stretch/>
        </p:blipFill>
        <p:spPr>
          <a:xfrm>
            <a:off x="152280" y="4495680"/>
            <a:ext cx="210528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"/>
          <p:cNvPicPr/>
          <p:nvPr/>
        </p:nvPicPr>
        <p:blipFill>
          <a:blip r:embed="rId19"/>
          <a:stretch/>
        </p:blipFill>
        <p:spPr>
          <a:xfrm>
            <a:off x="6413400" y="6156360"/>
            <a:ext cx="1543320" cy="65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"/>
          <p:cNvPicPr/>
          <p:nvPr/>
        </p:nvPicPr>
        <p:blipFill>
          <a:blip r:embed="rId20"/>
          <a:stretch/>
        </p:blipFill>
        <p:spPr>
          <a:xfrm>
            <a:off x="4419720" y="4343400"/>
            <a:ext cx="1522440" cy="730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"/>
          <p:cNvPicPr/>
          <p:nvPr/>
        </p:nvPicPr>
        <p:blipFill>
          <a:blip r:embed="rId21"/>
          <a:stretch/>
        </p:blipFill>
        <p:spPr>
          <a:xfrm>
            <a:off x="5105520" y="5105520"/>
            <a:ext cx="1950840" cy="492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"/>
          <p:cNvPicPr/>
          <p:nvPr/>
        </p:nvPicPr>
        <p:blipFill>
          <a:blip r:embed="rId22"/>
          <a:stretch/>
        </p:blipFill>
        <p:spPr>
          <a:xfrm>
            <a:off x="8305920" y="3962520"/>
            <a:ext cx="761760" cy="1023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"/>
          <p:cNvPicPr/>
          <p:nvPr/>
        </p:nvPicPr>
        <p:blipFill>
          <a:blip r:embed="rId23"/>
          <a:stretch/>
        </p:blipFill>
        <p:spPr>
          <a:xfrm>
            <a:off x="7121520" y="5008680"/>
            <a:ext cx="1565280" cy="573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"/>
          <p:cNvPicPr/>
          <p:nvPr/>
        </p:nvPicPr>
        <p:blipFill>
          <a:blip r:embed="rId24"/>
          <a:stretch/>
        </p:blipFill>
        <p:spPr>
          <a:xfrm>
            <a:off x="2895480" y="5181480"/>
            <a:ext cx="2000520" cy="677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"/>
          <p:cNvPicPr/>
          <p:nvPr/>
        </p:nvPicPr>
        <p:blipFill>
          <a:blip r:embed="rId25"/>
          <a:stretch/>
        </p:blipFill>
        <p:spPr>
          <a:xfrm>
            <a:off x="2133720" y="5877000"/>
            <a:ext cx="1333440" cy="568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"/>
          <p:cNvPicPr/>
          <p:nvPr/>
        </p:nvPicPr>
        <p:blipFill>
          <a:blip r:embed="rId26"/>
          <a:stretch/>
        </p:blipFill>
        <p:spPr>
          <a:xfrm>
            <a:off x="8381880" y="1600200"/>
            <a:ext cx="685800" cy="274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0" descr=""/>
          <p:cNvPicPr/>
          <p:nvPr/>
        </p:nvPicPr>
        <p:blipFill>
          <a:blip r:embed="rId27"/>
          <a:stretch/>
        </p:blipFill>
        <p:spPr>
          <a:xfrm>
            <a:off x="152280" y="990720"/>
            <a:ext cx="919440" cy="93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1" descr=""/>
          <p:cNvPicPr/>
          <p:nvPr/>
        </p:nvPicPr>
        <p:blipFill>
          <a:blip r:embed="rId28"/>
          <a:stretch/>
        </p:blipFill>
        <p:spPr>
          <a:xfrm>
            <a:off x="7772400" y="3048120"/>
            <a:ext cx="1214280" cy="838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2" descr=""/>
          <p:cNvPicPr/>
          <p:nvPr/>
        </p:nvPicPr>
        <p:blipFill>
          <a:blip r:embed="rId29"/>
          <a:stretch/>
        </p:blipFill>
        <p:spPr>
          <a:xfrm>
            <a:off x="152280" y="5715000"/>
            <a:ext cx="1967040" cy="60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3" descr=""/>
          <p:cNvPicPr/>
          <p:nvPr/>
        </p:nvPicPr>
        <p:blipFill>
          <a:blip r:embed="rId30"/>
          <a:stretch/>
        </p:blipFill>
        <p:spPr>
          <a:xfrm>
            <a:off x="4876920" y="5548320"/>
            <a:ext cx="1809720" cy="776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4" descr=""/>
          <p:cNvPicPr/>
          <p:nvPr/>
        </p:nvPicPr>
        <p:blipFill>
          <a:blip r:embed="rId31"/>
          <a:stretch/>
        </p:blipFill>
        <p:spPr>
          <a:xfrm>
            <a:off x="2286000" y="1523880"/>
            <a:ext cx="2610000" cy="3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5" descr=""/>
          <p:cNvPicPr/>
          <p:nvPr/>
        </p:nvPicPr>
        <p:blipFill>
          <a:blip r:embed="rId32"/>
          <a:stretch/>
        </p:blipFill>
        <p:spPr>
          <a:xfrm>
            <a:off x="5029200" y="1523880"/>
            <a:ext cx="3300480" cy="3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6" descr=""/>
          <p:cNvPicPr/>
          <p:nvPr/>
        </p:nvPicPr>
        <p:blipFill>
          <a:blip r:embed="rId33"/>
          <a:stretch/>
        </p:blipFill>
        <p:spPr>
          <a:xfrm>
            <a:off x="152280" y="1981080"/>
            <a:ext cx="932040" cy="814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7" descr=""/>
          <p:cNvPicPr/>
          <p:nvPr/>
        </p:nvPicPr>
        <p:blipFill>
          <a:blip r:embed="rId34"/>
          <a:stretch/>
        </p:blipFill>
        <p:spPr>
          <a:xfrm>
            <a:off x="1143000" y="990720"/>
            <a:ext cx="1028880" cy="707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8" descr=""/>
          <p:cNvPicPr/>
          <p:nvPr/>
        </p:nvPicPr>
        <p:blipFill>
          <a:blip r:embed="rId35"/>
          <a:stretch/>
        </p:blipFill>
        <p:spPr>
          <a:xfrm>
            <a:off x="2286000" y="990720"/>
            <a:ext cx="118116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9" descr=""/>
          <p:cNvPicPr/>
          <p:nvPr/>
        </p:nvPicPr>
        <p:blipFill>
          <a:blip r:embed="rId36"/>
          <a:stretch/>
        </p:blipFill>
        <p:spPr>
          <a:xfrm>
            <a:off x="4572000" y="2666880"/>
            <a:ext cx="1038240" cy="45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0" descr=""/>
          <p:cNvPicPr/>
          <p:nvPr/>
        </p:nvPicPr>
        <p:blipFill>
          <a:blip r:embed="rId37"/>
          <a:srcRect l="7497" t="13893" r="10006" b="21295"/>
          <a:stretch/>
        </p:blipFill>
        <p:spPr>
          <a:xfrm>
            <a:off x="152280" y="3581280"/>
            <a:ext cx="1214640" cy="77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1" descr=""/>
          <p:cNvPicPr/>
          <p:nvPr/>
        </p:nvPicPr>
        <p:blipFill>
          <a:blip r:embed="rId38"/>
          <a:stretch/>
        </p:blipFill>
        <p:spPr>
          <a:xfrm>
            <a:off x="1428840" y="2781360"/>
            <a:ext cx="1628640" cy="571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2" descr=""/>
          <p:cNvPicPr/>
          <p:nvPr/>
        </p:nvPicPr>
        <p:blipFill>
          <a:blip r:embed="rId39"/>
          <a:stretch/>
        </p:blipFill>
        <p:spPr>
          <a:xfrm>
            <a:off x="8077320" y="5592600"/>
            <a:ext cx="985680" cy="50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3" descr=""/>
          <p:cNvPicPr/>
          <p:nvPr/>
        </p:nvPicPr>
        <p:blipFill>
          <a:blip r:embed="rId40"/>
          <a:srcRect l="0" t="3131" r="0" b="0"/>
          <a:stretch/>
        </p:blipFill>
        <p:spPr>
          <a:xfrm>
            <a:off x="3581280" y="990720"/>
            <a:ext cx="1633680" cy="398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4" descr=""/>
          <p:cNvPicPr/>
          <p:nvPr/>
        </p:nvPicPr>
        <p:blipFill>
          <a:blip r:embed="rId41"/>
          <a:stretch/>
        </p:blipFill>
        <p:spPr>
          <a:xfrm>
            <a:off x="6553080" y="5562720"/>
            <a:ext cx="1495440" cy="48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42"/>
          <a:stretch/>
        </p:blipFill>
        <p:spPr>
          <a:xfrm>
            <a:off x="5764320" y="1928880"/>
            <a:ext cx="2768400" cy="347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6" descr=""/>
          <p:cNvPicPr/>
          <p:nvPr/>
        </p:nvPicPr>
        <p:blipFill>
          <a:blip r:embed="rId43"/>
          <a:stretch/>
        </p:blipFill>
        <p:spPr>
          <a:xfrm>
            <a:off x="152280" y="5181480"/>
            <a:ext cx="2762280" cy="561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7" descr=""/>
          <p:cNvPicPr/>
          <p:nvPr/>
        </p:nvPicPr>
        <p:blipFill>
          <a:blip r:embed="rId44"/>
          <a:stretch/>
        </p:blipFill>
        <p:spPr>
          <a:xfrm>
            <a:off x="1143000" y="1817640"/>
            <a:ext cx="1128600" cy="46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8" descr=""/>
          <p:cNvPicPr/>
          <p:nvPr/>
        </p:nvPicPr>
        <p:blipFill>
          <a:blip r:embed="rId45"/>
          <a:srcRect l="0" t="0" r="0" b="51882"/>
          <a:stretch/>
        </p:blipFill>
        <p:spPr>
          <a:xfrm>
            <a:off x="5105520" y="914400"/>
            <a:ext cx="1751040" cy="606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9" descr=""/>
          <p:cNvPicPr/>
          <p:nvPr/>
        </p:nvPicPr>
        <p:blipFill>
          <a:blip r:embed="rId46"/>
          <a:stretch/>
        </p:blipFill>
        <p:spPr>
          <a:xfrm>
            <a:off x="8381880" y="1295280"/>
            <a:ext cx="623880" cy="3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0" descr=""/>
          <p:cNvPicPr/>
          <p:nvPr/>
        </p:nvPicPr>
        <p:blipFill>
          <a:blip r:embed="rId47"/>
          <a:srcRect l="9546" t="25465" r="6877" b="11993"/>
          <a:stretch/>
        </p:blipFill>
        <p:spPr>
          <a:xfrm>
            <a:off x="8061480" y="6138720"/>
            <a:ext cx="974520" cy="675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1" descr=""/>
          <p:cNvPicPr/>
          <p:nvPr/>
        </p:nvPicPr>
        <p:blipFill>
          <a:blip r:embed="rId48"/>
          <a:stretch/>
        </p:blipFill>
        <p:spPr>
          <a:xfrm>
            <a:off x="3141720" y="2832120"/>
            <a:ext cx="1351080" cy="519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2" descr=""/>
          <p:cNvPicPr/>
          <p:nvPr/>
        </p:nvPicPr>
        <p:blipFill>
          <a:blip r:embed="rId49"/>
          <a:stretch/>
        </p:blipFill>
        <p:spPr>
          <a:xfrm>
            <a:off x="152280" y="6324480"/>
            <a:ext cx="1482840" cy="544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3" descr=""/>
          <p:cNvPicPr/>
          <p:nvPr/>
        </p:nvPicPr>
        <p:blipFill>
          <a:blip r:embed="rId50"/>
          <a:srcRect l="50013" t="0" r="0" b="0"/>
          <a:stretch/>
        </p:blipFill>
        <p:spPr>
          <a:xfrm>
            <a:off x="8578800" y="1916280"/>
            <a:ext cx="601560" cy="55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4" descr=""/>
          <p:cNvPicPr/>
          <p:nvPr/>
        </p:nvPicPr>
        <p:blipFill>
          <a:blip r:embed="rId51"/>
          <a:stretch/>
        </p:blipFill>
        <p:spPr>
          <a:xfrm>
            <a:off x="4363920" y="5805360"/>
            <a:ext cx="639720" cy="77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5" descr=""/>
          <p:cNvPicPr/>
          <p:nvPr/>
        </p:nvPicPr>
        <p:blipFill>
          <a:blip r:embed="rId52"/>
          <a:stretch/>
        </p:blipFill>
        <p:spPr>
          <a:xfrm>
            <a:off x="1692360" y="6512040"/>
            <a:ext cx="2036520" cy="3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457200" y="104760"/>
            <a:ext cx="5880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cent prizes and disti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371600"/>
            <a:ext cx="8229600" cy="48546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Latin-American Prize to Excellence in eLearning (Online Educa Madrid 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Registered as Research Group of Excellence (GR-4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Best Paper in Session Award to “Blended learning University students’ perception of digital competence”. In 2010 EABR &amp; ETLC Conferences (Dublin, Ireland, June 7-10, 2010). The Clute Institute For Academic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380880"/>
                <a:tab algn="l" pos="828720"/>
                <a:tab algn="l" pos="1278000"/>
                <a:tab algn="l" pos="1727280"/>
                <a:tab algn="l" pos="2176560"/>
                <a:tab algn="l" pos="2625840"/>
                <a:tab algn="l" pos="3075120"/>
                <a:tab algn="l" pos="3524400"/>
                <a:tab algn="l" pos="3973680"/>
                <a:tab algn="l" pos="4422600"/>
                <a:tab algn="l" pos="4871880"/>
                <a:tab algn="l" pos="5321160"/>
                <a:tab algn="l" pos="5770440"/>
                <a:tab algn="l" pos="6219720"/>
                <a:tab algn="l" pos="6669000"/>
                <a:tab algn="l" pos="7118280"/>
                <a:tab algn="l" pos="7567560"/>
                <a:tab algn="l" pos="8016840"/>
                <a:tab algn="l" pos="8466120"/>
                <a:tab algn="l" pos="8915400"/>
                <a:tab algn="l" pos="9364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30000"/>
                </a:solidFill>
                <a:latin typeface="Tahoma"/>
              </a:rPr>
              <a:t>Final Undergraduate Project Prize 2010 for the work “CLAYMOBILE: Adaptation of the Moodle contents for mobile phon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706920" y="2181240"/>
            <a:ext cx="1522440" cy="647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5421240" y="2162160"/>
            <a:ext cx="646200" cy="633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2514600" y="2057400"/>
            <a:ext cx="1141560" cy="839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4"/>
          <a:stretch/>
        </p:blipFill>
        <p:spPr>
          <a:xfrm>
            <a:off x="3886200" y="3200400"/>
            <a:ext cx="958680" cy="57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0:14:22Z</dcterms:created>
  <dc:creator>Antón Seoane</dc:creator>
  <dc:description/>
  <dc:language>en-US</dc:language>
  <cp:lastModifiedBy>Alicia García Holgado</cp:lastModifiedBy>
  <dcterms:modified xsi:type="dcterms:W3CDTF">2011-01-04T10:35:12Z</dcterms:modified>
  <cp:revision>32</cp:revision>
  <dc:subject/>
  <dc:title>Dr. D. Francisco José García Peñalvo Vicerrector de Innovación Tecnológica - USAL Director del Grupo de Investigación</dc:title>
</cp:coreProperties>
</file>