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51040" y="0"/>
            <a:ext cx="15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1C595-25CE-486E-8250-F37E4661C950}" type="datetime">
              <a:rPr b="0" lang="es-ES_tradnl" sz="1200" spc="-1" strike="noStrike">
                <a:solidFill>
                  <a:srgbClr val="666666"/>
                </a:solidFill>
                <a:latin typeface="Tahoma"/>
                <a:ea typeface="Tahom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1912680" y="8685000"/>
            <a:ext cx="29718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6171840" y="8685360"/>
            <a:ext cx="6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E0694-40FC-4D01-918D-3538BBDFA7CA}" type="slidenum">
              <a:rPr b="0" lang="es-ES_tradnl" sz="1200" spc="-1" strike="noStrike">
                <a:solidFill>
                  <a:srgbClr val="66666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6172200" y="8685360"/>
            <a:ext cx="6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B51E0-FBDE-432F-B5DA-A1C987E4B96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958-FC7B-4168-96EF-79E12BBE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1AE-AF84-4750-B497-F57BD9ED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FDD-E8F4-460A-B96E-85E3D3ED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221-AB7C-447C-A99F-ABC5668F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FA1-BEED-4C7F-BC53-9053D2BA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FE5-171C-4076-B160-38FF71A2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6B4-5FA1-4277-891F-37D8DE39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49B-8C58-476E-BDAA-3D8F5588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6720"/>
            <a:ext cx="58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36A-D25B-4AB5-B18D-D169D340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D1A-853F-4E10-B7BD-9884DFE6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C33-2B97-4C63-8254-6BE63415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FBB-8944-428A-B1F6-714754D2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2BADB-7489-42FB-B764-EE08D416A7A9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0CB08-D4AC-47FB-9D83-3372ED357B8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Imagen 7" descr="Grial 100 transparente.png"/>
          <p:cNvPicPr/>
          <p:nvPr/>
        </p:nvPicPr>
        <p:blipFill>
          <a:blip r:embed="rId2"/>
          <a:stretch/>
        </p:blipFill>
        <p:spPr>
          <a:xfrm>
            <a:off x="6337440" y="0"/>
            <a:ext cx="2806560" cy="127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rial.usal.es/poli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82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nline Tutoring in Grial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238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666666"/>
                </a:solidFill>
                <a:latin typeface="Tahoma"/>
              </a:rPr>
              <a:t>Antonio Seoane Pard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666666"/>
                </a:solidFill>
                <a:latin typeface="Tahoma"/>
              </a:rPr>
              <a:t>Research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666666"/>
                </a:solidFill>
                <a:latin typeface="Tahoma"/>
              </a:rPr>
              <a:t>aseoane@usal.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Imagen 2" descr=""/>
          <p:cNvPicPr/>
          <p:nvPr/>
        </p:nvPicPr>
        <p:blipFill>
          <a:blip r:embed="rId1"/>
          <a:stretch/>
        </p:blipFill>
        <p:spPr>
          <a:xfrm>
            <a:off x="190440" y="5505480"/>
            <a:ext cx="2082960" cy="1028520"/>
          </a:xfrm>
          <a:prstGeom prst="rect">
            <a:avLst/>
          </a:prstGeom>
          <a:ln w="0">
            <a:noFill/>
          </a:ln>
        </p:spPr>
      </p:pic>
      <p:sp>
        <p:nvSpPr>
          <p:cNvPr id="52" name="CuadroTexto 3"/>
          <p:cNvSpPr/>
          <p:nvPr/>
        </p:nvSpPr>
        <p:spPr>
          <a:xfrm>
            <a:off x="2467440" y="5657760"/>
            <a:ext cx="6380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This report has been made under the auspices of the Lifelong Learning Programme – Leonardo da Vinci VETPRO Project “ELearning 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flamenco rhythm” (Ref. 872A8A24631B9423)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This project has been funded with support from the European Commission under the Lifelong Learning Program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This publication reflects the views only of the author, and the Commission cannot be held responsible for any use which may be mad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of the information contained therei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What is exactly an online tutor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Tutoring rol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Tutoring skills and competenc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Tutor training programm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Online tutor tasks in GRIAL Group. Working methodolog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Success ca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nline tutor training for Spanish Ar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6591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Online tutor tasks in Grial Grou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160" y="1295280"/>
            <a:ext cx="266688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1. Course 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614520" y="1600200"/>
            <a:ext cx="15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tutor receives…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692520" y="990720"/>
            <a:ext cx="2895480" cy="15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tudents’ incoming skil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arning de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arning Unit templa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chnical infrastruct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utcoming objectives, skills and competenc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2581200" y="3086280"/>
            <a:ext cx="838440" cy="342720"/>
          </a:xfrm>
          <a:prstGeom prst="rightArrow">
            <a:avLst>
              <a:gd name="adj1" fmla="val 50000"/>
              <a:gd name="adj2" fmla="val 6116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1371600" y="190512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19"/>
          <p:cNvSpPr/>
          <p:nvPr/>
        </p:nvSpPr>
        <p:spPr>
          <a:xfrm>
            <a:off x="609480" y="2819520"/>
            <a:ext cx="1905120" cy="838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T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619440" y="2905200"/>
            <a:ext cx="144792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2. Unit plan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(a prio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3486240" y="3505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tutor plans…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2762280" y="1276200"/>
            <a:ext cx="914400" cy="381240"/>
          </a:xfrm>
          <a:prstGeom prst="pi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6105600" y="3024360"/>
            <a:ext cx="2657520" cy="5202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ctivity pl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rading strategies &amp; activi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5105520" y="3029040"/>
            <a:ext cx="914400" cy="380880"/>
          </a:xfrm>
          <a:prstGeom prst="pi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1371600" y="373392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38160" y="4724280"/>
            <a:ext cx="220968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3. Studen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14480" y="5029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tutor’s tasks…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3228840" y="4340160"/>
            <a:ext cx="3048120" cy="2225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ads the Learning Commun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ages and leads activi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ares tas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courages interaction and collaborative work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derates communication flo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motes empathy (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êth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motes a comfortable working environ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cilitates vertical commun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2286000" y="4705200"/>
            <a:ext cx="914400" cy="381240"/>
          </a:xfrm>
          <a:prstGeom prst="pi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31"/>
          <p:cNvSpPr/>
          <p:nvPr/>
        </p:nvSpPr>
        <p:spPr>
          <a:xfrm rot="720000">
            <a:off x="2365200" y="3913200"/>
            <a:ext cx="4569120" cy="342720"/>
          </a:xfrm>
          <a:prstGeom prst="rightArrow">
            <a:avLst>
              <a:gd name="adj1" fmla="val 55556"/>
              <a:gd name="adj2" fmla="val 8332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6991200" y="4191120"/>
            <a:ext cx="144792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4. Settings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(in itiner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6858000" y="479124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tutor fits…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6305400" y="5181480"/>
            <a:ext cx="2819520" cy="1311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trategies and/or activities for a single stu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arning design to clear up general learning difficul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oordination with didactical and personal tuto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35"/>
          <p:cNvSpPr/>
          <p:nvPr/>
        </p:nvSpPr>
        <p:spPr>
          <a:xfrm rot="5400000">
            <a:off x="8267760" y="4505400"/>
            <a:ext cx="914400" cy="380880"/>
          </a:xfrm>
          <a:prstGeom prst="pi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6477120" y="2971800"/>
            <a:ext cx="213336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5.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6400800" y="3367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the whole proces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45"/>
          <p:cNvSpPr/>
          <p:nvPr/>
        </p:nvSpPr>
        <p:spPr>
          <a:xfrm rot="900000">
            <a:off x="2742840" y="1828440"/>
            <a:ext cx="4572000" cy="609480"/>
          </a:xfrm>
          <a:prstGeom prst="leftArrow">
            <a:avLst>
              <a:gd name="adj1" fmla="val 50000"/>
              <a:gd name="adj2" fmla="val 187537"/>
            </a:avLst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46"/>
          <p:cNvSpPr/>
          <p:nvPr/>
        </p:nvSpPr>
        <p:spPr>
          <a:xfrm>
            <a:off x="4952880" y="2895480"/>
            <a:ext cx="1524240" cy="609840"/>
          </a:xfrm>
          <a:prstGeom prst="lef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47"/>
          <p:cNvSpPr/>
          <p:nvPr/>
        </p:nvSpPr>
        <p:spPr>
          <a:xfrm rot="20700000">
            <a:off x="2289240" y="3962520"/>
            <a:ext cx="5029200" cy="609480"/>
          </a:xfrm>
          <a:prstGeom prst="leftArrow">
            <a:avLst>
              <a:gd name="adj1" fmla="val 50000"/>
              <a:gd name="adj2" fmla="val 206291"/>
            </a:avLst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48"/>
          <p:cNvSpPr/>
          <p:nvPr/>
        </p:nvSpPr>
        <p:spPr>
          <a:xfrm rot="16200000">
            <a:off x="7353360" y="346680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53"/>
          <p:cNvSpPr/>
          <p:nvPr/>
        </p:nvSpPr>
        <p:spPr>
          <a:xfrm rot="10800000">
            <a:off x="685440" y="3733920"/>
            <a:ext cx="7620120" cy="2209680"/>
          </a:xfrm>
          <a:custGeom>
            <a:avLst/>
            <a:gdLst>
              <a:gd name="textAreaLeft" fmla="*/ 1636560 w 7620120"/>
              <a:gd name="textAreaRight" fmla="*/ 5221440 w 7620120"/>
              <a:gd name="textAreaTop" fmla="*/ 295920 h 2209680"/>
              <a:gd name="textAreaBottom" fmla="*/ 191376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9" hR="21600" stAng="10800000" swAng="5400000"/>
                <a:lnTo>
                  <a:pt x="10161" y="0"/>
                </a:lnTo>
                <a:arcTo wR="9279" hR="21600" stAng="-5400000" swAng="3008019"/>
                <a:lnTo>
                  <a:pt x="21055" y="14306"/>
                </a:lnTo>
                <a:lnTo>
                  <a:pt x="18999" y="21600"/>
                </a:lnTo>
                <a:lnTo>
                  <a:pt x="15853" y="14306"/>
                </a:lnTo>
                <a:lnTo>
                  <a:pt x="18013" y="14306"/>
                </a:lnTo>
                <a:arcTo wR="9279" hR="21600" stAng="-2391981" swAng="-2937762"/>
                <a:lnTo>
                  <a:pt x="9720" y="24"/>
                </a:lnTo>
                <a:arcTo wR="9279" hR="21600" stAng="-5470257" swAng="-5329743"/>
                <a:close/>
              </a:path>
              <a:path fill="darkenLess" w="21600" h="21600">
                <a:moveTo>
                  <a:pt x="0" y="21600"/>
                </a:moveTo>
                <a:arcTo wR="9279" hR="21600" stAng="10800000" swAng="5400000"/>
                <a:lnTo>
                  <a:pt x="9279" y="0"/>
                </a:lnTo>
                <a:arcTo wR="9279" hR="21600" stAng="-5400000" swAng="70257"/>
                <a:lnTo>
                  <a:pt x="9720" y="24"/>
                </a:lnTo>
                <a:arcTo wR="9279" hR="21600" stAng="-5470257" swAng="-5329743"/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54"/>
          <p:cNvSpPr/>
          <p:nvPr/>
        </p:nvSpPr>
        <p:spPr>
          <a:xfrm>
            <a:off x="7467480" y="2133720"/>
            <a:ext cx="1295640" cy="83808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7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0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3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nline tutor training for Spanish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n 2" descr="Sin títul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711520"/>
            <a:ext cx="82296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82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ziękuję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38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666666"/>
                </a:solidFill>
                <a:latin typeface="Tahoma"/>
              </a:rPr>
              <a:t>Antonio Seoane Pard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666666"/>
                </a:solidFill>
                <a:latin typeface="Tahoma"/>
              </a:rPr>
              <a:t>Research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666666"/>
                </a:solidFill>
                <a:latin typeface="Tahoma"/>
              </a:rPr>
              <a:t>aseoane@usal.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Imagen 2" descr=""/>
          <p:cNvPicPr/>
          <p:nvPr/>
        </p:nvPicPr>
        <p:blipFill>
          <a:blip r:embed="rId1"/>
          <a:stretch/>
        </p:blipFill>
        <p:spPr>
          <a:xfrm>
            <a:off x="190440" y="5505480"/>
            <a:ext cx="2082960" cy="1028520"/>
          </a:xfrm>
          <a:prstGeom prst="rect">
            <a:avLst/>
          </a:prstGeom>
          <a:ln w="0">
            <a:noFill/>
          </a:ln>
        </p:spPr>
      </p:pic>
      <p:sp>
        <p:nvSpPr>
          <p:cNvPr id="93" name="CuadroTexto 3"/>
          <p:cNvSpPr/>
          <p:nvPr/>
        </p:nvSpPr>
        <p:spPr>
          <a:xfrm>
            <a:off x="2467440" y="5657760"/>
            <a:ext cx="6380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This report has been made under the auspices of the Lifelong Learning Programme – Leonardo da Vinci VETPRO Project “ELearning 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flamenco rhythm” (Ref. 872A8A24631B9423)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This project has been funded with support from the European Commission under the Lifelong Learning Program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This publication reflects the views only of the author, and the Commission cannot be held responsible for any use which may be mad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of the information contained therei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8T18:21:50Z</dcterms:created>
  <dc:creator>Alicia García Holgado</dc:creator>
  <dc:description/>
  <dc:language>en-US</dc:language>
  <cp:lastModifiedBy>Alicia García Holgado</cp:lastModifiedBy>
  <dcterms:modified xsi:type="dcterms:W3CDTF">2011-01-24T15:15:23Z</dcterms:modified>
  <cp:revision>7</cp:revision>
  <dc:subject/>
  <dc:title>Online Tutoring in Grial Group</dc:title>
</cp:coreProperties>
</file>