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51040" y="0"/>
            <a:ext cx="15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9732-7566-4FD6-95F2-8E021C87336E}" type="datetime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1912680" y="8685000"/>
            <a:ext cx="297180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617184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4C23B-AEA9-4499-BAD3-08A3B4427203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B6827-D482-4117-8D6E-78973790060F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qué consiste. Contenidos. Metodología de trabajo. Información prác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302751-C05A-4BF1-AFAD-CFD7CD7CA937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n qué consiste. Contenidos. Metodología de trabajo. Información prác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arcador de número de diapositiva 3"/>
          <p:cNvSpPr/>
          <p:nvPr/>
        </p:nvSpPr>
        <p:spPr>
          <a:xfrm>
            <a:off x="6172200" y="868536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261E4-2918-4664-A3F6-5260652BE865}" type="slidenum">
              <a:rPr b="0" lang="es-ES_tradnl" sz="1200" spc="-1" strike="noStrike">
                <a:solidFill>
                  <a:srgbClr val="666666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D21-2686-4981-B9DE-823F2D34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6D0-5A1A-4ABB-9D10-CADBE70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AD2-37CC-4B3E-B82B-467755B1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B60-5A21-4740-936A-4092B575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307-AF63-41C8-A062-E68DB04C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DF07-CDF0-4499-A776-FD12D439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FCAA-EA74-4F7D-8E1E-8C7A816C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EBC-9E85-4E43-B279-40183FE8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A04-7BC2-45BF-BF74-304EBE50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A3C-9B40-4CC1-8C7B-CCED6D2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F41-F638-4014-A68A-3163C49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8B1-493F-49FC-AF06-96AC032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62C6A-C10D-41EE-ACC8-8012217020C0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C5569-45B6-446F-A3DE-FFF8B236B25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mapspublic2.ihmc.us/rid=1HGN0QPWH-MZ7B9H-NMR/SRS.cmap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ikIwvc4tzoQ#at=157" TargetMode="External"/><Relationship Id="rId2" Type="http://schemas.openxmlformats.org/officeDocument/2006/relationships/hyperlink" Target="http://www.slideshare.net/TCAnalysis/tca-observatorio-redes-sociales2011publico?from=ss_embed" TargetMode="External"/><Relationship Id="rId3" Type="http://schemas.openxmlformats.org/officeDocument/2006/relationships/hyperlink" Target="http://www.facebookmarketing.es/infografico-usuarios-de-facebook-en-espana-marzo-del-2011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flickr.com/photos/ferminius/4443590208/sizes/z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hironweb.com/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flickr.com/photos/lisascenic/2290828335/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http://arrukero.com/potachov/blog/?p=703" TargetMode="External"/><Relationship Id="rId3" Type="http://schemas.openxmlformats.org/officeDocument/2006/relationships/hyperlink" Target="http://arrukero.com/potachov/blog/?p=703" TargetMode="External"/><Relationship Id="rId4" Type="http://schemas.openxmlformats.org/officeDocument/2006/relationships/hyperlink" Target="http://arrukero.com/potachov/blog/?p=703" TargetMode="External"/><Relationship Id="rId5" Type="http://schemas.openxmlformats.org/officeDocument/2006/relationships/hyperlink" Target="http://arrukero.com/potachov/blog/?p=703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arrukero.com/potachov/blog/?p=703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ducacontic.es/blog/facebook-en-educacion" TargetMode="External"/><Relationship Id="rId2" Type="http://schemas.openxmlformats.org/officeDocument/2006/relationships/hyperlink" Target="http://www.educacontic.es/blog/facebook-en-educacion" TargetMode="External"/><Relationship Id="rId3" Type="http://schemas.openxmlformats.org/officeDocument/2006/relationships/hyperlink" Target="http://www.educacontic.es/blog/facebook-en-educacion" TargetMode="External"/><Relationship Id="rId4" Type="http://schemas.openxmlformats.org/officeDocument/2006/relationships/hyperlink" Target="http://www.educacontic.es/blog/facebook-en-educacion" TargetMode="External"/><Relationship Id="rId5" Type="http://schemas.openxmlformats.org/officeDocument/2006/relationships/hyperlink" Target="http://www.educacontic.es/blog/facebook-en-educacion" TargetMode="External"/><Relationship Id="rId6" Type="http://schemas.openxmlformats.org/officeDocument/2006/relationships/hyperlink" Target="http://www.educacontic.es/blog/facebook-en-educacion" TargetMode="External"/><Relationship Id="rId7" Type="http://schemas.openxmlformats.org/officeDocument/2006/relationships/hyperlink" Target="http://innovandoef.wordpress.com/2009/12/09/uso-educativo-de-tuenti-en-educacion-fisica/" TargetMode="External"/><Relationship Id="rId8" Type="http://schemas.openxmlformats.org/officeDocument/2006/relationships/hyperlink" Target="http://innovandoef.wordpress.com/2009/12/09/uso-educativo-de-tuenti-en-educacion-fisica/" TargetMode="External"/><Relationship Id="rId9" Type="http://schemas.openxmlformats.org/officeDocument/2006/relationships/hyperlink" Target="http://innovandoef.wordpress.com/2009/12/09/uso-educativo-de-tuenti-en-educacion-fisica/" TargetMode="External"/><Relationship Id="rId10" Type="http://schemas.openxmlformats.org/officeDocument/2006/relationships/hyperlink" Target="http://innovandoef.wordpress.com/2009/12/09/uso-educativo-de-tuenti-en-educacion-fisica/" TargetMode="External"/><Relationship Id="rId11" Type="http://schemas.openxmlformats.org/officeDocument/2006/relationships/hyperlink" Target="http://innovandoef.wordpress.com/2009/12/09/uso-educativo-de-tuenti-en-educacion-fisica/" TargetMode="External"/><Relationship Id="rId12" Type="http://schemas.openxmlformats.org/officeDocument/2006/relationships/hyperlink" Target="http://innovandoef.wordpress.com/2009/12/09/uso-educativo-de-tuenti-en-educacion-fisica/" TargetMode="External"/><Relationship Id="rId13" Type="http://schemas.openxmlformats.org/officeDocument/2006/relationships/hyperlink" Target="http://innovandoef.wordpress.com/2009/12/09/uso-educativo-de-tuenti-en-educacion-fisica/" TargetMode="External"/><Relationship Id="rId14" Type="http://schemas.openxmlformats.org/officeDocument/2006/relationships/hyperlink" Target="http://innovandoef.wordpress.com/2009/12/09/uso-educativo-de-tuenti-en-educacion-fisica/" TargetMode="External"/><Relationship Id="rId15" Type="http://schemas.openxmlformats.org/officeDocument/2006/relationships/hyperlink" Target="http://innovandoef.wordpress.com/2009/12/09/uso-educativo-de-tuenti-en-educacion-fisica/" TargetMode="External"/><Relationship Id="rId16" Type="http://schemas.openxmlformats.org/officeDocument/2006/relationships/hyperlink" Target="http://dimglobal.ning.com/profiles/blogs/usos-educativos-de-twitter" TargetMode="External"/><Relationship Id="rId17" Type="http://schemas.openxmlformats.org/officeDocument/2006/relationships/hyperlink" Target="http://dimglobal.ning.com/profiles/blogs/usos-educativos-de-twitter" TargetMode="External"/><Relationship Id="rId18" Type="http://schemas.openxmlformats.org/officeDocument/2006/relationships/hyperlink" Target="http://dimglobal.ning.com/profiles/blogs/usos-educativos-de-twitter" TargetMode="External"/><Relationship Id="rId19" Type="http://schemas.openxmlformats.org/officeDocument/2006/relationships/hyperlink" Target="http://dimglobal.ning.com/profiles/blogs/usos-educativos-de-twitter" TargetMode="External"/><Relationship Id="rId20" Type="http://schemas.openxmlformats.org/officeDocument/2006/relationships/hyperlink" Target="http://dimglobal.ning.com/profiles/blogs/usos-educativos-de-twitter" TargetMode="External"/><Relationship Id="rId21" Type="http://schemas.openxmlformats.org/officeDocument/2006/relationships/hyperlink" Target="http://dimglobal.ning.com/profiles/blogs/usos-educativos-de-twitter" TargetMode="External"/><Relationship Id="rId22" Type="http://schemas.openxmlformats.org/officeDocument/2006/relationships/hyperlink" Target="http://jjdeharo.blogspot.com/2008/11/aplicacin-de-ning-la-educacin.html" TargetMode="External"/><Relationship Id="rId23" Type="http://schemas.openxmlformats.org/officeDocument/2006/relationships/hyperlink" Target="http://reflexionesenelearning.blogspot.com/search/label/Ning" TargetMode="External"/><Relationship Id="rId24" Type="http://schemas.openxmlformats.org/officeDocument/2006/relationships/hyperlink" Target="http://reflexionesenelearning.blogspot.com/search/label/Ning" TargetMode="External"/><Relationship Id="rId25" Type="http://schemas.openxmlformats.org/officeDocument/2006/relationships/hyperlink" Target="http://reflexionesenelearning.blogspot.com/search/label/Ning" TargetMode="External"/><Relationship Id="rId26" Type="http://schemas.openxmlformats.org/officeDocument/2006/relationships/hyperlink" Target="http://reflexionesenelearning.blogspot.com/search/label/Ning" TargetMode="External"/><Relationship Id="rId27" Type="http://schemas.openxmlformats.org/officeDocument/2006/relationships/hyperlink" Target="http://reflexionesenelearning.blogspot.com/search/label/Ning" TargetMode="External"/><Relationship Id="rId28" Type="http://schemas.openxmlformats.org/officeDocument/2006/relationships/hyperlink" Target="http://reflexionesenelearning.blogspot.com/search/label/Ning" TargetMode="External"/><Relationship Id="rId29" Type="http://schemas.openxmlformats.org/officeDocument/2006/relationships/hyperlink" Target="http://reflexionesenelearning.blogspot.com/search/label/Ning" TargetMode="External"/><Relationship Id="rId3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, comunidades y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560" y="3225960"/>
            <a:ext cx="897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Olga Díez Fernánde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a30000"/>
                </a:solidFill>
                <a:latin typeface="Tahoma"/>
              </a:rPr>
              <a:t>odiefer@tutoron-line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Subtítulo 2"/>
          <p:cNvSpPr/>
          <p:nvPr/>
        </p:nvSpPr>
        <p:spPr>
          <a:xfrm>
            <a:off x="825480" y="5994360"/>
            <a:ext cx="679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Academia de Logística del Ejército de Tierra (AC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666666"/>
                </a:solidFill>
                <a:latin typeface="Tahoma"/>
                <a:ea typeface="Tahoma"/>
              </a:rPr>
              <a:t>Calatayud</a:t>
            </a: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, 5 de abril d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n 4" descr="459px-Escudo_del_Ejército_de_Tierra.svg.png"/>
          <p:cNvPicPr/>
          <p:nvPr/>
        </p:nvPicPr>
        <p:blipFill>
          <a:blip r:embed="rId1"/>
          <a:stretch/>
        </p:blipFill>
        <p:spPr>
          <a:xfrm>
            <a:off x="8002440" y="5311800"/>
            <a:ext cx="1103400" cy="1440000"/>
          </a:xfrm>
          <a:prstGeom prst="rect">
            <a:avLst/>
          </a:prstGeom>
          <a:ln w="0">
            <a:noFill/>
          </a:ln>
        </p:spPr>
      </p:pic>
      <p:pic>
        <p:nvPicPr>
          <p:cNvPr id="53" name="Imagen 5" descr="aclog.gif"/>
          <p:cNvPicPr/>
          <p:nvPr/>
        </p:nvPicPr>
        <p:blipFill>
          <a:blip r:embed="rId2"/>
          <a:stretch/>
        </p:blipFill>
        <p:spPr>
          <a:xfrm>
            <a:off x="6867360" y="5311800"/>
            <a:ext cx="107028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Imagen 8" descr="Escudo_piedra_SMA.gif"/>
          <p:cNvPicPr/>
          <p:nvPr/>
        </p:nvPicPr>
        <p:blipFill>
          <a:blip r:embed="rId3"/>
          <a:stretch/>
        </p:blipFill>
        <p:spPr>
          <a:xfrm>
            <a:off x="104760" y="531180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Imagen 9" descr="88x31.png"/>
          <p:cNvPicPr/>
          <p:nvPr/>
        </p:nvPicPr>
        <p:blipFill>
          <a:blip r:embed="rId4"/>
          <a:stretch/>
        </p:blipFill>
        <p:spPr>
          <a:xfrm>
            <a:off x="4013280" y="5221440"/>
            <a:ext cx="111744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axiona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des sociales vs Servicios 2.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des verticales vs Redes horizonta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De Haro: Clasificación S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Marcador de contenido 8" descr="TiposRS.jpg"/>
          <p:cNvPicPr/>
          <p:nvPr/>
        </p:nvPicPr>
        <p:blipFill>
          <a:blip r:embed="rId2"/>
          <a:srcRect l="0" t="-8206" r="0" b="-8206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9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uarios: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4 palabras más buscadas en google en España: Facebook, Youtube, Tuenti y Twitt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2 % de tiempo en Internet se pasa en redes social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aña es el séptimo país del mundo que más usa facebook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0 millones de españoles son usuarios de redes 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de 12 millones de españoles usan facebook y más de 8,6 tuenti (con un 86 % entre los usuarios de 15 a 30 años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aña está en el Top10 de Twi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do de: 101agencia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Uso de las redes sociales en Españ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datos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Observatorio de redes sociales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ebook marketing publica mensualmente 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sus d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áb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8000"/>
          </a:bodyPr>
          <a:p>
            <a:pPr marL="883440" indent="-360720" algn="ctr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400" spc="-1" strike="noStrike">
                <a:solidFill>
                  <a:srgbClr val="630000"/>
                </a:solidFill>
                <a:latin typeface="Tahoma"/>
              </a:rPr>
              <a:t>Sociabilidad  Gratuidad  Comunicación Disponi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amigos y conocidos 63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unicarme de forma gratuita 63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ocalizar a viejos amigos/conocidos 36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cer planes/ organizar “quedadas” 21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gente que vive en el extranjero 19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á de moda 16%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601"/>
              </a:spcBef>
              <a:buClr>
                <a:srgbClr val="63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uenti para queda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witter y los Blogs uso más informativo - interés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3440" indent="-36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a través del móvil (4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perfiles.jpg"/>
          <p:cNvPicPr/>
          <p:nvPr/>
        </p:nvPicPr>
        <p:blipFill>
          <a:blip r:embed="rId1"/>
          <a:stretch/>
        </p:blipFill>
        <p:spPr>
          <a:xfrm>
            <a:off x="1003320" y="1239840"/>
            <a:ext cx="6854760" cy="511668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Marcador de contenido 4" descr="patiovecinos.jpg"/>
          <p:cNvPicPr/>
          <p:nvPr/>
        </p:nvPicPr>
        <p:blipFill>
          <a:blip r:embed="rId1"/>
          <a:stretch/>
        </p:blipFill>
        <p:spPr>
          <a:xfrm>
            <a:off x="457200" y="395280"/>
            <a:ext cx="3662280" cy="54896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débi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so social lúdico: entretenimien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Muchas conversacio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oyeuris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dentidad personal expuest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Sel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Foto de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Feminius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en flick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Y el aprendizaj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Marcador de contenido 8" descr="yo-nos-cualquiera.jpg"/>
          <p:cNvPicPr/>
          <p:nvPr/>
        </p:nvPicPr>
        <p:blipFill>
          <a:blip r:embed="rId1"/>
          <a:srcRect l="-18069" t="0" r="-180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08" name="Marcador de pie de página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47560"/>
            <a:ext cx="8229600" cy="4908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1079640" indent="-355680">
              <a:spcBef>
                <a:spcPts val="6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personas que comparten una preocupación, un conjunto de problemas o un interés común acerca de un tema, y que profundizan en su conocimiento y pericia en esta área a través de una interacción continuada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"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 algn="r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Wenger, McDermott y Snyder (2002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unidades virtuales de pr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tic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 de personas que comparten un área de interés sobre el que se comunican online, comparten recursos y mejoran su conocimiento en esa área y amplían el conocimiento de la comun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9640" indent="-355680" algn="r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nnon_Learyy  Fontainha (20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artir y apren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omiso mut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tir conocimiento implica m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 que ser exper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resa conj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reses comunes, negociaci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. Signifi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ertorio compart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que se generan en su quehacer: frases, conceptos, 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bolos, herrami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4" descr="cadena.jpg"/>
          <p:cNvPicPr/>
          <p:nvPr/>
        </p:nvPicPr>
        <p:blipFill>
          <a:blip r:embed="rId1"/>
          <a:stretch/>
        </p:blipFill>
        <p:spPr>
          <a:xfrm>
            <a:off x="5638680" y="1270080"/>
            <a:ext cx="30481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rregula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rean por una necesidad, no por una autor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utogest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s estructuras no son je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icas, sino basadas en la experiencia y en la confian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orm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tan calidad comunicación y confian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e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vatos y veteranos; grado de participac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 dive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r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630000"/>
                </a:solidFill>
                <a:latin typeface="Tahoma"/>
              </a:rPr>
              <a:t>Aprendizaje informal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63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unidades de Pr</a:t>
            </a: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tic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990000"/>
                </a:solidFill>
                <a:latin typeface="Tahoma"/>
              </a:rPr>
              <a:t>Liderazgo y moderaci</a:t>
            </a:r>
            <a:r>
              <a:rPr b="1" lang="el-GR" sz="2000" spc="-1" strike="noStrike">
                <a:solidFill>
                  <a:srgbClr val="990000"/>
                </a:solidFill>
                <a:latin typeface="Tahoma"/>
              </a:rPr>
              <a:t>ó</a:t>
            </a:r>
            <a:r>
              <a:rPr b="1" lang="es-ES_tradnl" sz="2000" spc="-1" strike="noStrike">
                <a:solidFill>
                  <a:srgbClr val="990000"/>
                </a:solidFill>
                <a:latin typeface="Tahoma"/>
              </a:rPr>
              <a:t>n Coordinad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mover la participaci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stionar el intercambio de conteni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rvar los contenido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derazgo compartido, no form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_tradnl" sz="20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23" name="Marcador de contenido 8" descr="cuerdas.jpg"/>
          <p:cNvPicPr/>
          <p:nvPr/>
        </p:nvPicPr>
        <p:blipFill>
          <a:blip r:embed="rId1"/>
          <a:srcRect l="0" t="-23608" r="0" b="-23608"/>
          <a:stretch/>
        </p:blipFill>
        <p:spPr>
          <a:xfrm>
            <a:off x="4645080" y="1768320"/>
            <a:ext cx="4041720" cy="395136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2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Diagrama 7" descr=""/>
          <p:cNvPicPr/>
          <p:nvPr/>
        </p:nvPicPr>
        <p:blipFill>
          <a:blip r:embed="rId1"/>
          <a:stretch/>
        </p:blipFill>
        <p:spPr>
          <a:xfrm>
            <a:off x="755640" y="1590840"/>
            <a:ext cx="81932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- Identificar temas importantes que deben tratarse en el ámbito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lanificar y facilitar las actividades de la CP. 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nectar informalmente a los miembros de la CP, superando los límites entre las unidades organizacionales, y gestionar los activos del conocimien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r el desarrollo de los miembros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Gestionar la frontera entre la CP y la organización formal, como por ejemplo los equipos y otras unidades organizaciona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yudar a construir la práctica, incluyendo el conocimiento base, la experiencia adquirida, las mejores prácticas, las herramientas y los métodos, y las actividades de aprendizaj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alorar la salud de la CP y evaluar las contribuciones de los miembros a l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Marcador de pie de pá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Un caso para estudiar: Chir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600200"/>
            <a:ext cx="420372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Grupo de profesores de cl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ica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persi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eb com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ú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: </a:t>
            </a:r>
            <a:r>
              <a:rPr b="0" lang="es-ES_tradnl" sz="24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chironweb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ci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 en 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ensa de las c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Marcador de contenido 6" descr="chironmosaico.gif"/>
          <p:cNvPicPr/>
          <p:nvPr/>
        </p:nvPicPr>
        <p:blipFill>
          <a:blip r:embed="rId2"/>
          <a:srcRect l="-2924" t="0" r="-2924" b="0"/>
          <a:stretch/>
        </p:blipFill>
        <p:spPr>
          <a:xfrm>
            <a:off x="5060880" y="1828800"/>
            <a:ext cx="3625920" cy="40640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hiron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iderazgo compartid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form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ticipantes centrales y perif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ic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entauros s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uarios gene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xpertos y novat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Marcador de contenido 5" descr="logotransparente.png"/>
          <p:cNvPicPr/>
          <p:nvPr/>
        </p:nvPicPr>
        <p:blipFill>
          <a:blip r:embed="rId1"/>
          <a:srcRect l="-34422" t="0" r="-34422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5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hiron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Herramienta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ace de los blog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ortal we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ios 2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ordinaci</a:t>
            </a: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 google grou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Marcador de contenido 5" descr="aranitadechiron.png"/>
          <p:cNvPicPr/>
          <p:nvPr/>
        </p:nvPicPr>
        <p:blipFill>
          <a:blip r:embed="rId1"/>
          <a:srcRect l="0" t="-16002" r="0" b="-1600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9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endizaje y 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128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aprendizaje no se puede diseñar: sólo se puede facilitar o frustrar”(Wenger 19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Comunidades de Práctica como sistemas de aprendizaje 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4" descr="racimo.jpg"/>
          <p:cNvPicPr/>
          <p:nvPr/>
        </p:nvPicPr>
        <p:blipFill>
          <a:blip r:embed="rId1"/>
          <a:stretch/>
        </p:blipFill>
        <p:spPr>
          <a:xfrm>
            <a:off x="4394160" y="3533760"/>
            <a:ext cx="4673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e to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Marcador de contenido 4" descr="masfacil.jpg"/>
          <p:cNvPicPr/>
          <p:nvPr/>
        </p:nvPicPr>
        <p:blipFill>
          <a:blip r:embed="rId1">
            <a:alphaModFix amt="24000"/>
          </a:blip>
          <a:srcRect l="-6349" t="0" r="-634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4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orma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stituciones educativ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enidos curriculares, muy estructur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o forma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ganizaciones no académic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es formativas de un grup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formal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día, en el trabajo, en el ocio, con la famili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lanif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unidades de Práctica. Redes soc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endizaje permanente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rendizaje a lo largo de la v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os tránsi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la educación formal (régimen ordinar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 no formal (educación de adultos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 informal (web 2.0 y redes socia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la combinación de la educación formal con el aprendizaje in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Énfasis en lo compet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 digital + competencia ciudada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es sociales y edu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Redes Sociales son una oportunidad para construir aprendizajes que unan lo formal y lo infor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una sociedad que se comunica de otra manera,  hemos de comunicarnos de otra manera para enseñar y apre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Marcador de contenido 6" descr="tejiendo.jpg"/>
          <p:cNvPicPr/>
          <p:nvPr/>
        </p:nvPicPr>
        <p:blipFill>
          <a:blip r:embed="rId1"/>
          <a:srcRect l="0" t="-22010" r="0" b="-2201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5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adroTexto 7"/>
          <p:cNvSpPr/>
          <p:nvPr/>
        </p:nvSpPr>
        <p:spPr>
          <a:xfrm>
            <a:off x="5321160" y="5549760"/>
            <a:ext cx="27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 de </a:t>
            </a:r>
            <a:r>
              <a:rPr b="0" lang="es-ES_tradnl" sz="12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lisascenic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en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aula física no bast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Marcador de contenido 4" descr="vocales2_0.png"/>
          <p:cNvPicPr/>
          <p:nvPr/>
        </p:nvPicPr>
        <p:blipFill>
          <a:blip r:embed="rId1"/>
          <a:srcRect l="-20704" t="0" r="-20704" b="0"/>
          <a:stretch/>
        </p:blipFill>
        <p:spPr>
          <a:xfrm>
            <a:off x="457200" y="16128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6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adroTexto 4"/>
          <p:cNvSpPr/>
          <p:nvPr/>
        </p:nvSpPr>
        <p:spPr>
          <a:xfrm>
            <a:off x="2921040" y="6211800"/>
            <a:ext cx="37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agen de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Prrofesor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3"/>
              </a:rPr>
              <a:t> 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4"/>
              </a:rPr>
              <a:t>Potachov</a:t>
            </a:r>
            <a:r>
              <a:rPr b="0" lang="es-ES_tradnl" sz="1400" spc="-1" strike="noStrike" u="sng">
                <a:solidFill>
                  <a:srgbClr val="630000"/>
                </a:solidFill>
                <a:uFillTx/>
                <a:latin typeface="Arial"/>
                <a:hlinkClick r:id="rId5"/>
              </a:rPr>
              <a:t> de Molda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120" y="1600200"/>
            <a:ext cx="4038840" cy="4525920"/>
          </a:xfrm>
          <a:prstGeom prst="rect">
            <a:avLst/>
          </a:prstGeom>
          <a:solidFill>
            <a:srgbClr val="d9d9d9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 Unicode MS"/>
              </a:rPr>
              <a:t>Ὁ ἄνθρωπος φύσε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 Unicode MS"/>
              </a:rPr>
              <a:t>ζῷον πολιτικόν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Unicode MS"/>
              </a:rPr>
              <a:t>Aristótel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01760" y="1600200"/>
            <a:ext cx="37846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n 4" descr="800px-Sanzio_01_Plato_Aristotle.jpg"/>
          <p:cNvPicPr/>
          <p:nvPr/>
        </p:nvPicPr>
        <p:blipFill>
          <a:blip r:embed="rId1"/>
          <a:stretch/>
        </p:blipFill>
        <p:spPr>
          <a:xfrm>
            <a:off x="5340240" y="2052720"/>
            <a:ext cx="2908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tecnología no ba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Marcador de contenido 4" descr="innoveision.gif"/>
          <p:cNvPicPr/>
          <p:nvPr/>
        </p:nvPicPr>
        <p:blipFill>
          <a:blip r:embed="rId1"/>
          <a:srcRect l="-10600" t="0" r="-1060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6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adroTexto 4"/>
          <p:cNvSpPr/>
          <p:nvPr/>
        </p:nvSpPr>
        <p:spPr>
          <a:xfrm>
            <a:off x="2895480" y="6126120"/>
            <a:ext cx="38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n de </a:t>
            </a:r>
            <a:r>
              <a:rPr b="0" lang="en-US" sz="1400" spc="-1" strike="noStrike" u="sng">
                <a:solidFill>
                  <a:srgbClr val="630000"/>
                </a:solidFill>
                <a:uFillTx/>
                <a:latin typeface="Arial"/>
                <a:hlinkClick r:id="rId2"/>
              </a:rPr>
              <a:t>Prrofesor Potachov de Molda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facto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 información está a nuestra disposició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 interrelación y la comunicación se flexibiliza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¿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ué es enseñar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- Facilitar el acceso a la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uiar en los procesos de comunicación e interacción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ahom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rientar para construir aprendizaj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facto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Marcador de contenido 5" descr=""/>
          <p:cNvPicPr/>
          <p:nvPr/>
        </p:nvPicPr>
        <p:blipFill>
          <a:blip r:embed="rId1"/>
          <a:stretch/>
        </p:blipFill>
        <p:spPr>
          <a:xfrm>
            <a:off x="450720" y="1560600"/>
            <a:ext cx="8242560" cy="462744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71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uadroTexto 6"/>
          <p:cNvSpPr/>
          <p:nvPr/>
        </p:nvSpPr>
        <p:spPr>
          <a:xfrm>
            <a:off x="2209680" y="1841400"/>
            <a:ext cx="11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d9d9d9"/>
                </a:solidFill>
                <a:latin typeface="Arial"/>
              </a:rPr>
              <a:t>Lo que yo te puedo enseñ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adroTexto 7"/>
          <p:cNvSpPr/>
          <p:nvPr/>
        </p:nvSpPr>
        <p:spPr>
          <a:xfrm>
            <a:off x="5829480" y="49579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d9d9d9"/>
                </a:solidFill>
                <a:latin typeface="Arial"/>
              </a:rPr>
              <a:t>Lo que tú necesitas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ente como lí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unciones de liderazgo como las del coordinador de una comunidad de práctic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ficar temas importantes que deben tratarse en el ámbito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ificar y facilitar las actividades de la CP. 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ectar informalmente a los miembros de la CP, superando los límites entre las unidades organizacionales, y gestionar los activos del conocimien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tenciar el desarrollo de los miembros de la C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tionar la frontera entre la CP y la organización formal, como por ejemplo los equipos y otras unidades organizacional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yudar a construir la práctica, incluyendo el conocimiento base, la experiencia adquirida, las mejores prácticas, las herramientas y los métodos, y las actividades de aprendizaj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orar la salud de la CP y evaluar las contribuciones de los miembros a la organiz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es sociales más usual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o educativ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ebo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"/>
              </a:rPr>
              <a:t>www.educacontic.es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3"/>
              </a:rPr>
              <a:t>/blog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4"/>
              </a:rPr>
              <a:t>facebook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5"/>
              </a:rPr>
              <a:t>-en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6"/>
              </a:rPr>
              <a:t>educa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uen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8"/>
              </a:rPr>
              <a:t>innovandoef.wordpress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9"/>
              </a:rPr>
              <a:t>/2009/12/09/uso-educativo-de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0"/>
              </a:rPr>
              <a:t>tuenti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1"/>
              </a:rPr>
              <a:t>-en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2"/>
              </a:rPr>
              <a:t>educacion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3"/>
              </a:rPr>
              <a:t>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4"/>
              </a:rPr>
              <a:t>fisica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wit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6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7"/>
              </a:rPr>
              <a:t>dimglobal.ning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8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19"/>
              </a:rPr>
              <a:t>profiles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0"/>
              </a:rPr>
              <a:t>/blogs/usos-educativos-de-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1"/>
              </a:rPr>
              <a:t>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2"/>
              </a:rPr>
              <a:t>http://jjdeharo.blogspot.com/2008/11/aplicacin-de-ning-la-educaci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3"/>
              </a:rPr>
              <a:t>http:/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4"/>
              </a:rPr>
              <a:t>reflexionesenelearning.blogspot.com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5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6"/>
              </a:rPr>
              <a:t>search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7"/>
              </a:rPr>
              <a:t>/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8"/>
              </a:rPr>
              <a:t>label</a:t>
            </a:r>
            <a:r>
              <a:rPr b="0" lang="es-ES_tradnl" sz="2000" spc="-1" strike="noStrike" u="sng">
                <a:solidFill>
                  <a:srgbClr val="630000"/>
                </a:solidFill>
                <a:uFillTx/>
                <a:latin typeface="Tahoma"/>
                <a:hlinkClick r:id="rId29"/>
              </a:rPr>
              <a:t>/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Learning 2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l conocimiento elaborado por unos pocos expertos a formas colaborativas de construcción de conocimient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ovechar los flujos 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prendizaje en Redes social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eñar un proces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más inmersiv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Learning by doing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n 4" descr="explorar.jpg"/>
          <p:cNvPicPr/>
          <p:nvPr/>
        </p:nvPicPr>
        <p:blipFill>
          <a:blip r:embed="rId1"/>
          <a:stretch/>
        </p:blipFill>
        <p:spPr>
          <a:xfrm>
            <a:off x="5549760" y="3086280"/>
            <a:ext cx="3594240" cy="3270240"/>
          </a:xfrm>
          <a:prstGeom prst="rect">
            <a:avLst/>
          </a:prstGeom>
          <a:ln w="0">
            <a:noFill/>
          </a:ln>
        </p:spPr>
      </p:pic>
      <p:sp>
        <p:nvSpPr>
          <p:cNvPr id="184" name="CuadroTexto 5"/>
          <p:cNvSpPr/>
          <p:nvPr/>
        </p:nvSpPr>
        <p:spPr>
          <a:xfrm>
            <a:off x="6019920" y="63565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oto de Ignacio Conejo en flick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orno personal de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njunto de recursos que usa cada uno de nosotros para aprender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arte de las necesidades reales y de cómo las resolvemos en cada contex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cluye el aprendizaje informal en redes sociales, el uso de los servicios web 2.0, las aulas virtuales y cualquier otro instrument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os ayuda a delimitar nuestra identidad digit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inculado a nuestro e-portfoli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 +PL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Marcador de contenido 4" descr="ple.jpg"/>
          <p:cNvPicPr/>
          <p:nvPr/>
        </p:nvPicPr>
        <p:blipFill>
          <a:blip r:embed="rId1"/>
          <a:srcRect l="-18181" t="0" r="-1818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9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onclusi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Nativos digitales y redes social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. ¿saben usar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la web 2.0 para aprender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? ¿Controlan su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identidad digital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cuando usan las redes sociales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Una clase en Ning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¿realmente se diferencia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de una clase en Moodle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Qué aprendizaje en redes sociales </a:t>
            </a: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es E-learning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RESENTACIÓN DEL MÓDULO TOL-U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Tahoma"/>
            </a:endParaRPr>
          </a:p>
        </p:txBody>
      </p:sp>
      <p:sp>
        <p:nvSpPr>
          <p:cNvPr id="19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Imagen 7" descr="Logotipo TOL photoshop.jpg"/>
          <p:cNvPicPr/>
          <p:nvPr/>
        </p:nvPicPr>
        <p:blipFill>
          <a:blip r:embed="rId1"/>
          <a:stretch/>
        </p:blipFill>
        <p:spPr>
          <a:xfrm>
            <a:off x="2693880" y="1247760"/>
            <a:ext cx="33260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 la poli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a la aldea global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n 9" descr="ostraka2.jpg.JPG"/>
          <p:cNvPicPr/>
          <p:nvPr/>
        </p:nvPicPr>
        <p:blipFill>
          <a:blip r:embed="rId1"/>
          <a:stretch/>
        </p:blipFill>
        <p:spPr>
          <a:xfrm>
            <a:off x="915840" y="3289320"/>
            <a:ext cx="3246480" cy="2320920"/>
          </a:xfrm>
          <a:prstGeom prst="rect">
            <a:avLst/>
          </a:prstGeom>
          <a:ln w="0">
            <a:noFill/>
          </a:ln>
        </p:spPr>
      </p:pic>
      <p:pic>
        <p:nvPicPr>
          <p:cNvPr id="69" name="Imagen 10" descr="m-learnin.png"/>
          <p:cNvPicPr/>
          <p:nvPr/>
        </p:nvPicPr>
        <p:blipFill>
          <a:blip r:embed="rId2"/>
          <a:stretch/>
        </p:blipFill>
        <p:spPr>
          <a:xfrm>
            <a:off x="5410080" y="2262240"/>
            <a:ext cx="34988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 qué consist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inco semanas de formación intensiva sobre tutoría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ormación más práctica que teóric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Basado en el aprendizaje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por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etencias y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en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etenci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urso de alta interacción y trabajo en grup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tensa labor del equipo de tuto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requiere disciplina y constancia en el trabaj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l curso es extremadamente motivado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79360" y="1422360"/>
            <a:ext cx="4216320" cy="4703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1: 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Concepto de e-learning e introducción a la tutoría onlin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escripción del concepto de </a:t>
            </a:r>
            <a:r>
              <a:rPr b="0" i="1" lang="es-ES_tradnl" sz="1100" spc="-1" strike="noStrike">
                <a:solidFill>
                  <a:srgbClr val="000000"/>
                </a:solidFill>
                <a:latin typeface="Tahoma"/>
              </a:rPr>
              <a:t>e-learnin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Naturaleza de la función tutori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Roles y perfiles de tutoría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mpetencias y destrezas del tutor virtu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Ámbitos de aplicación y casos de estudio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2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Uso eficiente de las herramientas a disposición de un tutor virtu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atálogo de herramientas y utilidades más habituales para un tut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plicaciones didácticas de estas herramientas a contextos formativos diverso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imulación de situaciones formativas diferentes para adopción de las herramientas adecua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nsejos prácticos de utilización, precauciones contra mal uso o uso ineficient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3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Dinámicas de comunicación e interacción en contextos virtuale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Contextos y modalidades de comunicación: casos práctico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Habilidades de liderazgo, motivación y persuasió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422360"/>
            <a:ext cx="4216320" cy="47037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7000"/>
          </a:bodyPr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Perfiles de alumnado y roles de comunicación: qué hacer y cómo hace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strategias para la solución de problemas (inactividad, conflictos, malos entendidos…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imulación de situaciones y juego de ro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4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Gestión y evaluación de actividades formativ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daptación de actividades a competencias y destrezas predefini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Secuenciación y planificación de la carga y la tipología de las actividades según el tipo de contenido formativo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valuación de actividades, evaluación de la interacción y evaluación continua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Autoevaluación y heteroevaluació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esarrollo de casos prácticos y simulación de situaciones formativas concret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Semana 5: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Tahoma"/>
              </a:rPr>
              <a:t>Diseño de actividades formativas y control de la calidad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Nociones básicas de diseño instruccional aplicado a la labor tutorial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Elementos y criterios de control de calidad de actividades formativas autorizada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32640" indent="-1602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Diseño e implementación de una iniciativa formativa piloto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strategias metodológicas </a:t>
            </a:r>
            <a:r>
              <a:rPr b="0" i="1" lang="es-ES_tradnl" sz="2600" spc="-1" strike="noStrike">
                <a:solidFill>
                  <a:srgbClr val="000000"/>
                </a:solidFill>
                <a:latin typeface="Tahoma"/>
              </a:rPr>
              <a:t>onl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les de trabajo disponibles en el SGA 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 actividades claro y preciso, día por d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ividades prácticas (individuales y en grup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ción continu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rientación hacia la práctica de situaciones reales de tuto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render hacie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todología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nstrumentos metodológicos y de evalu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so de la comunicación asíncrona a través del SGA de la USAL (foros y herramientas de trabajo en grup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ción de casos prácticos con situaciones “rea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ción de ensayos-informe finales por un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sta en práctica de los roles de tutoría desde el primer d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nual de superviv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se espera de vosotr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Mantén una actitud participativa y colaborativ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baja en grup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Reflexiona, critica, discute, pero contribuye a la solución de los proble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rabaja de la manera más constante posible (± 2h/día) pero sin necesidad de horarios fijos </a:t>
            </a:r>
            <a:r>
              <a:rPr b="1" lang="es-ES_tradnl" sz="2200" spc="-1" strike="noStrike">
                <a:solidFill>
                  <a:srgbClr val="ff0000"/>
                </a:solidFill>
                <a:latin typeface="Tahoma"/>
              </a:rPr>
              <a:t>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No dudes en preguntar, individualmente o en grup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réetelo: tienes mucho que aportar, tanto o más que apre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Actúa como tutor desde el primer día, no sólo como alumno. Aprende a andar… andand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formación prác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Fechas: del 25 de abril al 27 de mayo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ugar: http://grial.usal.es/pol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Dudas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acta con el Cap. Mayoral (AC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 con Antón Seoane (aseoane@usal.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Resuelve cualquier duda con los tutores de la unidad  a la mayor breve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Tahoma"/>
              </a:rPr>
              <a:t>Comunica incidencias lo antes posible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(ausencias, dificultades para seguir una unidad) para que se te ofrezcan soluciones alternativ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os víde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Estos vídeos están disponibles para tu consulta en el SGA USAL “Pólis”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ceso a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aveg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sonaliza tu perf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racción con el S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4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8560" y="3225960"/>
            <a:ext cx="8978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Subtítulo 2"/>
          <p:cNvSpPr/>
          <p:nvPr/>
        </p:nvSpPr>
        <p:spPr>
          <a:xfrm>
            <a:off x="825480" y="5994360"/>
            <a:ext cx="6794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Academia de Logística del Ejército de Tierra (ACLO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666666"/>
                </a:solidFill>
                <a:latin typeface="Tahoma"/>
                <a:ea typeface="Tahoma"/>
              </a:rPr>
              <a:t>Calatayud</a:t>
            </a:r>
            <a:r>
              <a:rPr b="0" lang="es-ES_tradnl" sz="1400" spc="-1" strike="noStrike">
                <a:solidFill>
                  <a:srgbClr val="666666"/>
                </a:solidFill>
                <a:latin typeface="Tahoma"/>
                <a:ea typeface="Tahoma"/>
              </a:rPr>
              <a:t>, 11 de noviembre d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4" descr="459px-Escudo_del_Ejército_de_Tierra.svg.png"/>
          <p:cNvPicPr/>
          <p:nvPr/>
        </p:nvPicPr>
        <p:blipFill>
          <a:blip r:embed="rId1"/>
          <a:stretch/>
        </p:blipFill>
        <p:spPr>
          <a:xfrm>
            <a:off x="8002440" y="5311800"/>
            <a:ext cx="1103400" cy="144000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5" descr="aclog.gif"/>
          <p:cNvPicPr/>
          <p:nvPr/>
        </p:nvPicPr>
        <p:blipFill>
          <a:blip r:embed="rId2"/>
          <a:stretch/>
        </p:blipFill>
        <p:spPr>
          <a:xfrm>
            <a:off x="6867360" y="5311800"/>
            <a:ext cx="107028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8" descr="Escudo_piedra_SMA.gif"/>
          <p:cNvPicPr/>
          <p:nvPr/>
        </p:nvPicPr>
        <p:blipFill>
          <a:blip r:embed="rId3"/>
          <a:stretch/>
        </p:blipFill>
        <p:spPr>
          <a:xfrm>
            <a:off x="104760" y="531180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9" descr="88x31.png"/>
          <p:cNvPicPr/>
          <p:nvPr/>
        </p:nvPicPr>
        <p:blipFill>
          <a:blip r:embed="rId4"/>
          <a:stretch/>
        </p:blipFill>
        <p:spPr>
          <a:xfrm>
            <a:off x="4013280" y="5221440"/>
            <a:ext cx="1117440" cy="393480"/>
          </a:xfrm>
          <a:prstGeom prst="rect">
            <a:avLst/>
          </a:prstGeom>
          <a:ln w="0">
            <a:noFill/>
          </a:ln>
        </p:spPr>
      </p:pic>
      <p:sp>
        <p:nvSpPr>
          <p:cNvPr id="227" name="CuadroTexto 8"/>
          <p:cNvSpPr/>
          <p:nvPr/>
        </p:nvSpPr>
        <p:spPr>
          <a:xfrm>
            <a:off x="3568680" y="269244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630000"/>
                </a:solidFill>
                <a:latin typeface="Arial"/>
              </a:rPr>
              <a:t>Gra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uestra identidad es soci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rrelación entre nuestra identidad personal y la dimensión social de nuestra vi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prendizaj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as habilidad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¿Qué ha cambiado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cial Media, software social, SR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Marcador de contenido 8" descr="telaraña.jpg"/>
          <p:cNvPicPr/>
          <p:nvPr/>
        </p:nvPicPr>
        <p:blipFill>
          <a:blip r:embed="rId1"/>
          <a:srcRect l="-1616" t="0" r="-1616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73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e BBS y USENET (1980)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a blogosfera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logs conec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lksonom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me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 de software so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Marcador de pie de pá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6" descr="blogosfera.gif"/>
          <p:cNvPicPr/>
          <p:nvPr/>
        </p:nvPicPr>
        <p:blipFill>
          <a:blip r:embed="rId1"/>
          <a:stretch/>
        </p:blipFill>
        <p:spPr>
          <a:xfrm>
            <a:off x="3933720" y="213372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ios de Redes So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racción social + IP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unic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muni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oper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n que las personas se relacionen por una afinidad, compartan información, amplíen su círculo de amistades y realicen actividades ju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n 4" descr="madeja.jpg"/>
          <p:cNvPicPr/>
          <p:nvPr/>
        </p:nvPicPr>
        <p:blipFill>
          <a:blip r:embed="rId1"/>
          <a:stretch/>
        </p:blipFill>
        <p:spPr>
          <a:xfrm>
            <a:off x="5497560" y="1790640"/>
            <a:ext cx="2587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la red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sponemos de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erfil públic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v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sociales primari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miliares, amigos o conocidos en pres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Vínculos sociales derivado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Los amigos de mis amigos son mis amig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oría de los Seis Grados de S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4" descr="escalera6.jpg"/>
          <p:cNvPicPr/>
          <p:nvPr/>
        </p:nvPicPr>
        <p:blipFill>
          <a:blip r:embed="rId1"/>
          <a:stretch/>
        </p:blipFill>
        <p:spPr>
          <a:xfrm>
            <a:off x="6019920" y="1752480"/>
            <a:ext cx="20984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l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arcador de contenido 4" descr="reglas-vida social.jpg"/>
          <p:cNvPicPr/>
          <p:nvPr/>
        </p:nvPicPr>
        <p:blipFill>
          <a:blip r:embed="rId1"/>
          <a:srcRect l="-507" t="0" r="-507" b="0"/>
          <a:stretch/>
        </p:blipFill>
        <p:spPr>
          <a:xfrm>
            <a:off x="457200" y="1587600"/>
            <a:ext cx="822960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88" name="Marcador de pie de pá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8:29:00Z</dcterms:created>
  <dc:creator>Antón Seoane</dc:creator>
  <dc:description/>
  <dc:language>en-US</dc:language>
  <cp:lastModifiedBy>Olga Diez</cp:lastModifiedBy>
  <cp:lastPrinted>2011-04-03T19:22:00Z</cp:lastPrinted>
  <dcterms:modified xsi:type="dcterms:W3CDTF">2011-04-03T19:31:35Z</dcterms:modified>
  <cp:revision>61</cp:revision>
  <dc:subject/>
  <dc:title>El futuro del eLearning Tutor online 2.0</dc:title>
</cp:coreProperties>
</file>