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8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7.jpeg" ContentType="image/jpeg"/>
  <Override PartName="/ppt/media/image28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351040" y="0"/>
            <a:ext cx="15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666666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50525D-C118-42EC-96D7-AF66195A7728}" type="datetime">
              <a:rPr b="0" lang="es-ES_tradnl" sz="1200" spc="-1" strike="noStrike">
                <a:solidFill>
                  <a:srgbClr val="666666"/>
                </a:solidFill>
                <a:latin typeface="Tahoma"/>
                <a:ea typeface="Tahoma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1912680" y="8685000"/>
            <a:ext cx="297180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666666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6171840" y="8685360"/>
            <a:ext cx="68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666666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466F1C-EFE2-4E63-9D06-82E465D93EBA}" type="slidenum">
              <a:rPr b="0" lang="es-ES_tradnl" sz="1200" spc="-1" strike="noStrike">
                <a:solidFill>
                  <a:srgbClr val="66666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Marcador de número de diapositiva 3"/>
          <p:cNvSpPr/>
          <p:nvPr/>
        </p:nvSpPr>
        <p:spPr>
          <a:xfrm>
            <a:off x="6172200" y="8685360"/>
            <a:ext cx="6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D857C8-D072-4CBD-A23F-3FA04ED5AD03}" type="slidenum">
              <a:rPr b="0" lang="es-ES_tradnl" sz="1200" spc="-1" strike="noStrike">
                <a:solidFill>
                  <a:srgbClr val="66666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 qué consiste. Contenidos. Metodología de trabajo. Información prác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Marcador de número de diapositiva 3"/>
          <p:cNvSpPr/>
          <p:nvPr/>
        </p:nvSpPr>
        <p:spPr>
          <a:xfrm>
            <a:off x="6172200" y="8685360"/>
            <a:ext cx="6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A65A8A-6E49-45CA-B82C-C727B51A7E31}" type="slidenum">
              <a:rPr b="0" lang="es-ES_tradnl" sz="1200" spc="-1" strike="noStrike">
                <a:solidFill>
                  <a:srgbClr val="66666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 qué consiste. Contenidos. Metodología de trabajo. Información prác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Marcador de número de diapositiva 3"/>
          <p:cNvSpPr/>
          <p:nvPr/>
        </p:nvSpPr>
        <p:spPr>
          <a:xfrm>
            <a:off x="6172200" y="8685360"/>
            <a:ext cx="6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006DBA-3DE0-4A9C-A726-A117E2B1FB2E}" type="slidenum">
              <a:rPr b="0" lang="es-ES_tradnl" sz="1200" spc="-1" strike="noStrike">
                <a:solidFill>
                  <a:srgbClr val="66666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64E2-1A60-46C8-AFA8-1AAEBBA8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0535-70EA-4D4D-B97B-705BC458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45C2-5566-4A61-B91A-AF48FDE4B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3E2C-FA4E-44A9-B63B-C85D017E0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7A22-D3A5-4F3F-8DDC-4A83DA55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F5BA-0B67-43AB-8C6D-41BB9F22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0B2B-9F15-438D-BBF4-C62B0AB2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04CE-80C2-46FE-BEF3-245E072C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6720"/>
            <a:ext cx="58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A76F-7F7F-48D4-BADC-77F853FF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791B-050A-4295-9F44-1751E041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59CC-56E1-4A42-91C1-0B5F1814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3147-B45D-4843-96DD-D31B0DE2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Lucida Grande"/>
              <a:buChar char="⊳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Lucida Grande"/>
              <a:buChar char="⊳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Lucida Grande"/>
              <a:buChar char="⊳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D3D7B5-4C5E-4E2F-953B-A675415598A0}" type="datetime">
              <a:rPr b="0" lang="es-ES_tradn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666666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D0B5FF-D3EE-46C2-85AA-50D788A0801B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n 7" descr="Grial 100 transparente.png"/>
          <p:cNvPicPr/>
          <p:nvPr/>
        </p:nvPicPr>
        <p:blipFill>
          <a:blip r:embed="rId2"/>
          <a:stretch/>
        </p:blipFill>
        <p:spPr>
          <a:xfrm>
            <a:off x="6337440" y="0"/>
            <a:ext cx="2806560" cy="127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mapspublic2.ihmc.us/rid=1HGN0QPWH-MZ7B9H-NMR/SRS.cmap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feature=player_embedded&amp;v=ikIwvc4tzoQ#at=157" TargetMode="External"/><Relationship Id="rId2" Type="http://schemas.openxmlformats.org/officeDocument/2006/relationships/hyperlink" Target="http://www.slideshare.net/TCAnalysis/tca-observatorio-redes-sociales2011publico?from=ss_embed" TargetMode="External"/><Relationship Id="rId3" Type="http://schemas.openxmlformats.org/officeDocument/2006/relationships/hyperlink" Target="http://www.facebookmarketing.es/infografico-usuarios-de-facebook-en-espana-marzo-del-2011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flickr.com/photos/ferminius/4443590208/sizes/z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chironweb.com/" TargetMode="Externa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flickr.com/photos/lisascenic/2290828335/" TargetMode="Externa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hyperlink" Target="http://arrukero.com/potachov/blog/?p=703" TargetMode="External"/><Relationship Id="rId3" Type="http://schemas.openxmlformats.org/officeDocument/2006/relationships/hyperlink" Target="http://arrukero.com/potachov/blog/?p=703" TargetMode="External"/><Relationship Id="rId4" Type="http://schemas.openxmlformats.org/officeDocument/2006/relationships/hyperlink" Target="http://arrukero.com/potachov/blog/?p=703" TargetMode="External"/><Relationship Id="rId5" Type="http://schemas.openxmlformats.org/officeDocument/2006/relationships/hyperlink" Target="http://arrukero.com/potachov/blog/?p=703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arrukero.com/potachov/blog/?p=703" TargetMode="Externa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educacontic.es/blog/facebook-en-educacion" TargetMode="External"/><Relationship Id="rId2" Type="http://schemas.openxmlformats.org/officeDocument/2006/relationships/hyperlink" Target="http://www.educacontic.es/blog/facebook-en-educacion" TargetMode="External"/><Relationship Id="rId3" Type="http://schemas.openxmlformats.org/officeDocument/2006/relationships/hyperlink" Target="http://www.educacontic.es/blog/facebook-en-educacion" TargetMode="External"/><Relationship Id="rId4" Type="http://schemas.openxmlformats.org/officeDocument/2006/relationships/hyperlink" Target="http://www.educacontic.es/blog/facebook-en-educacion" TargetMode="External"/><Relationship Id="rId5" Type="http://schemas.openxmlformats.org/officeDocument/2006/relationships/hyperlink" Target="http://www.educacontic.es/blog/facebook-en-educacion" TargetMode="External"/><Relationship Id="rId6" Type="http://schemas.openxmlformats.org/officeDocument/2006/relationships/hyperlink" Target="http://www.educacontic.es/blog/facebook-en-educacion" TargetMode="External"/><Relationship Id="rId7" Type="http://schemas.openxmlformats.org/officeDocument/2006/relationships/hyperlink" Target="http://innovandoef.wordpress.com/2009/12/09/uso-educativo-de-tuenti-en-educacion-fisica/" TargetMode="External"/><Relationship Id="rId8" Type="http://schemas.openxmlformats.org/officeDocument/2006/relationships/hyperlink" Target="http://innovandoef.wordpress.com/2009/12/09/uso-educativo-de-tuenti-en-educacion-fisica/" TargetMode="External"/><Relationship Id="rId9" Type="http://schemas.openxmlformats.org/officeDocument/2006/relationships/hyperlink" Target="http://innovandoef.wordpress.com/2009/12/09/uso-educativo-de-tuenti-en-educacion-fisica/" TargetMode="External"/><Relationship Id="rId10" Type="http://schemas.openxmlformats.org/officeDocument/2006/relationships/hyperlink" Target="http://innovandoef.wordpress.com/2009/12/09/uso-educativo-de-tuenti-en-educacion-fisica/" TargetMode="External"/><Relationship Id="rId11" Type="http://schemas.openxmlformats.org/officeDocument/2006/relationships/hyperlink" Target="http://innovandoef.wordpress.com/2009/12/09/uso-educativo-de-tuenti-en-educacion-fisica/" TargetMode="External"/><Relationship Id="rId12" Type="http://schemas.openxmlformats.org/officeDocument/2006/relationships/hyperlink" Target="http://innovandoef.wordpress.com/2009/12/09/uso-educativo-de-tuenti-en-educacion-fisica/" TargetMode="External"/><Relationship Id="rId13" Type="http://schemas.openxmlformats.org/officeDocument/2006/relationships/hyperlink" Target="http://innovandoef.wordpress.com/2009/12/09/uso-educativo-de-tuenti-en-educacion-fisica/" TargetMode="External"/><Relationship Id="rId14" Type="http://schemas.openxmlformats.org/officeDocument/2006/relationships/hyperlink" Target="http://innovandoef.wordpress.com/2009/12/09/uso-educativo-de-tuenti-en-educacion-fisica/" TargetMode="External"/><Relationship Id="rId15" Type="http://schemas.openxmlformats.org/officeDocument/2006/relationships/hyperlink" Target="http://innovandoef.wordpress.com/2009/12/09/uso-educativo-de-tuenti-en-educacion-fisica/" TargetMode="External"/><Relationship Id="rId16" Type="http://schemas.openxmlformats.org/officeDocument/2006/relationships/hyperlink" Target="http://dimglobal.ning.com/profiles/blogs/usos-educativos-de-twitter" TargetMode="External"/><Relationship Id="rId17" Type="http://schemas.openxmlformats.org/officeDocument/2006/relationships/hyperlink" Target="http://dimglobal.ning.com/profiles/blogs/usos-educativos-de-twitter" TargetMode="External"/><Relationship Id="rId18" Type="http://schemas.openxmlformats.org/officeDocument/2006/relationships/hyperlink" Target="http://dimglobal.ning.com/profiles/blogs/usos-educativos-de-twitter" TargetMode="External"/><Relationship Id="rId19" Type="http://schemas.openxmlformats.org/officeDocument/2006/relationships/hyperlink" Target="http://dimglobal.ning.com/profiles/blogs/usos-educativos-de-twitter" TargetMode="External"/><Relationship Id="rId20" Type="http://schemas.openxmlformats.org/officeDocument/2006/relationships/hyperlink" Target="http://dimglobal.ning.com/profiles/blogs/usos-educativos-de-twitter" TargetMode="External"/><Relationship Id="rId21" Type="http://schemas.openxmlformats.org/officeDocument/2006/relationships/hyperlink" Target="http://dimglobal.ning.com/profiles/blogs/usos-educativos-de-twitter" TargetMode="External"/><Relationship Id="rId22" Type="http://schemas.openxmlformats.org/officeDocument/2006/relationships/hyperlink" Target="http://jjdeharo.blogspot.com/2008/11/aplicacin-de-ning-la-educacin.html" TargetMode="External"/><Relationship Id="rId23" Type="http://schemas.openxmlformats.org/officeDocument/2006/relationships/hyperlink" Target="http://reflexionesenelearning.blogspot.com/search/label/Ning" TargetMode="External"/><Relationship Id="rId24" Type="http://schemas.openxmlformats.org/officeDocument/2006/relationships/hyperlink" Target="http://reflexionesenelearning.blogspot.com/search/label/Ning" TargetMode="External"/><Relationship Id="rId25" Type="http://schemas.openxmlformats.org/officeDocument/2006/relationships/hyperlink" Target="http://reflexionesenelearning.blogspot.com/search/label/Ning" TargetMode="External"/><Relationship Id="rId26" Type="http://schemas.openxmlformats.org/officeDocument/2006/relationships/hyperlink" Target="http://reflexionesenelearning.blogspot.com/search/label/Ning" TargetMode="External"/><Relationship Id="rId27" Type="http://schemas.openxmlformats.org/officeDocument/2006/relationships/hyperlink" Target="http://reflexionesenelearning.blogspot.com/search/label/Ning" TargetMode="External"/><Relationship Id="rId28" Type="http://schemas.openxmlformats.org/officeDocument/2006/relationships/hyperlink" Target="http://reflexionesenelearning.blogspot.com/search/label/Ning" TargetMode="External"/><Relationship Id="rId29" Type="http://schemas.openxmlformats.org/officeDocument/2006/relationships/hyperlink" Target="http://reflexionesenelearning.blogspot.com/search/label/Ning" TargetMode="External"/><Relationship Id="rId30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es sociales, comunidades y aprendiz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8560" y="3225960"/>
            <a:ext cx="8978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Olga Díez Fernánde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666666"/>
                </a:solidFill>
                <a:latin typeface="Tahoma"/>
              </a:rPr>
              <a:t>GRupo de Investigación en InterAcción y eLearning (GRIA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666666"/>
                </a:solidFill>
                <a:latin typeface="Tahoma"/>
              </a:rPr>
              <a:t>Universidad de Salamanc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a30000"/>
                </a:solidFill>
                <a:latin typeface="Tahoma"/>
              </a:rPr>
              <a:t>odiefer@tutoron-line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Subtítulo 2"/>
          <p:cNvSpPr/>
          <p:nvPr/>
        </p:nvSpPr>
        <p:spPr>
          <a:xfrm>
            <a:off x="825480" y="5994360"/>
            <a:ext cx="6794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666666"/>
                </a:solidFill>
                <a:latin typeface="Tahoma"/>
                <a:ea typeface="Tahoma"/>
              </a:rPr>
              <a:t>Academia de Logística del Ejército de Tierra (ACLO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500" spc="-1" strike="noStrike">
                <a:solidFill>
                  <a:srgbClr val="666666"/>
                </a:solidFill>
                <a:latin typeface="Tahoma"/>
                <a:ea typeface="Tahoma"/>
              </a:rPr>
              <a:t>Calatayud</a:t>
            </a:r>
            <a:r>
              <a:rPr b="0" lang="es-ES_tradnl" sz="1400" spc="-1" strike="noStrike">
                <a:solidFill>
                  <a:srgbClr val="666666"/>
                </a:solidFill>
                <a:latin typeface="Tahoma"/>
                <a:ea typeface="Tahoma"/>
              </a:rPr>
              <a:t>, 5 de abril d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Imagen 4" descr="459px-Escudo_del_Ejército_de_Tierra.svg.png"/>
          <p:cNvPicPr/>
          <p:nvPr/>
        </p:nvPicPr>
        <p:blipFill>
          <a:blip r:embed="rId1"/>
          <a:stretch/>
        </p:blipFill>
        <p:spPr>
          <a:xfrm>
            <a:off x="8002440" y="5311800"/>
            <a:ext cx="1103400" cy="1440000"/>
          </a:xfrm>
          <a:prstGeom prst="rect">
            <a:avLst/>
          </a:prstGeom>
          <a:ln w="0">
            <a:noFill/>
          </a:ln>
        </p:spPr>
      </p:pic>
      <p:pic>
        <p:nvPicPr>
          <p:cNvPr id="53" name="Imagen 5" descr="aclog.gif"/>
          <p:cNvPicPr/>
          <p:nvPr/>
        </p:nvPicPr>
        <p:blipFill>
          <a:blip r:embed="rId2"/>
          <a:stretch/>
        </p:blipFill>
        <p:spPr>
          <a:xfrm>
            <a:off x="6867360" y="5311800"/>
            <a:ext cx="1070280" cy="1440000"/>
          </a:xfrm>
          <a:prstGeom prst="rect">
            <a:avLst/>
          </a:prstGeom>
          <a:ln w="0">
            <a:noFill/>
          </a:ln>
        </p:spPr>
      </p:pic>
      <p:pic>
        <p:nvPicPr>
          <p:cNvPr id="54" name="Imagen 8" descr="Escudo_piedra_SMA.gif"/>
          <p:cNvPicPr/>
          <p:nvPr/>
        </p:nvPicPr>
        <p:blipFill>
          <a:blip r:embed="rId3"/>
          <a:stretch/>
        </p:blipFill>
        <p:spPr>
          <a:xfrm>
            <a:off x="104760" y="5311800"/>
            <a:ext cx="1441440" cy="1440000"/>
          </a:xfrm>
          <a:prstGeom prst="rect">
            <a:avLst/>
          </a:prstGeom>
          <a:ln w="0">
            <a:noFill/>
          </a:ln>
        </p:spPr>
      </p:pic>
      <p:pic>
        <p:nvPicPr>
          <p:cNvPr id="55" name="Imagen 9" descr="88x31.png"/>
          <p:cNvPicPr/>
          <p:nvPr/>
        </p:nvPicPr>
        <p:blipFill>
          <a:blip r:embed="rId4"/>
          <a:stretch/>
        </p:blipFill>
        <p:spPr>
          <a:xfrm>
            <a:off x="4013280" y="5221440"/>
            <a:ext cx="111744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Taxionam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Redes sociales vs Servicios 2.0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Redes verticales vs Redes horizontal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1"/>
              </a:rPr>
              <a:t>De Haro: Clasificación S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Marcador de contenido 8" descr="TiposRS.jpg"/>
          <p:cNvPicPr/>
          <p:nvPr/>
        </p:nvPicPr>
        <p:blipFill>
          <a:blip r:embed="rId2"/>
          <a:srcRect l="0" t="-8206" r="0" b="-8206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cap="rnd" w="9360">
            <a:solidFill>
              <a:srgbClr val="dddddd"/>
            </a:solidFill>
            <a:miter/>
          </a:ln>
        </p:spPr>
      </p:pic>
      <p:sp>
        <p:nvSpPr>
          <p:cNvPr id="92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uarios: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s 4 palabras más buscadas en google en España: Facebook, Youtube, Tuenti y Twitter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2 % de tiempo en Internet se pasa en redes social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paña es el séptimo país del mundo que más usa facebook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0 millones de españoles son usuarios de redes soc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de 12 millones de españoles usan facebook y más de 8,6 tuenti (con un 86 % entre los usuarios de 15 a 30 años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paña está en el Top10 de Twit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omado de: 101agencia 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1"/>
              </a:rPr>
              <a:t>Uso de las redes sociales en Españ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datos 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2"/>
              </a:rPr>
              <a:t>Observatorio de redes sociales 20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acebook marketing publica mensualmente 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3"/>
              </a:rPr>
              <a:t>sus da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Marcador de pie de pá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ábi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7563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 fontScale="98000"/>
          </a:bodyPr>
          <a:p>
            <a:pPr marL="883440" indent="-360720" algn="ctr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_tradnl" sz="2400" spc="-1" strike="noStrike">
                <a:solidFill>
                  <a:srgbClr val="630000"/>
                </a:solidFill>
                <a:latin typeface="Tahoma"/>
              </a:rPr>
              <a:t>Sociabilidad  Gratuidad  Comunicación Disponibi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83440" indent="-3607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acto con amigos y conocidos 63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3440" indent="-3607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unicarme de forma gratuita 63%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3440" indent="-3607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localizar a viejos amigos/conocidos 36%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3440" indent="-3607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acer planes/ organizar “quedadas” 21%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3440" indent="-3607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acto con gente que vive en el extranjero 19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3440" indent="-3607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á de moda 16%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3440" indent="-360720">
              <a:spcBef>
                <a:spcPts val="601"/>
              </a:spcBef>
              <a:buClr>
                <a:srgbClr val="63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83440" indent="-36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uenti para quedar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3440" indent="-36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witter y los Blogs uso más informativo - interés profesio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3440" indent="-36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o a través del móvil (40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magen 5" descr="perfiles.jpg"/>
          <p:cNvPicPr/>
          <p:nvPr/>
        </p:nvPicPr>
        <p:blipFill>
          <a:blip r:embed="rId1"/>
          <a:stretch/>
        </p:blipFill>
        <p:spPr>
          <a:xfrm>
            <a:off x="1003320" y="1239840"/>
            <a:ext cx="6854760" cy="5116680"/>
          </a:xfrm>
          <a:prstGeom prst="rect">
            <a:avLst/>
          </a:prstGeom>
          <a:ln w="9360">
            <a:solidFill>
              <a:srgbClr val="40404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Marcador de contenido 4" descr="patiovecinos.jpg"/>
          <p:cNvPicPr/>
          <p:nvPr/>
        </p:nvPicPr>
        <p:blipFill>
          <a:blip r:embed="rId1"/>
          <a:stretch/>
        </p:blipFill>
        <p:spPr>
          <a:xfrm>
            <a:off x="457200" y="395280"/>
            <a:ext cx="3662280" cy="5489640"/>
          </a:xfrm>
          <a:prstGeom prst="rect">
            <a:avLst/>
          </a:prstGeom>
          <a:ln cap="rnd" w="9360">
            <a:solidFill>
              <a:srgbClr val="dddddd"/>
            </a:solidFill>
            <a:miter/>
          </a:ln>
        </p:spPr>
      </p:pic>
      <p:sp>
        <p:nvSpPr>
          <p:cNvPr id="10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Vínculos débile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Uso social lúdico: entretenimiento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Muchas conversacion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Voyeurismo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Identidad personal expuesta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630000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630000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630000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630000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630000"/>
                </a:solidFill>
                <a:latin typeface="Tahoma"/>
              </a:rPr>
              <a:t>Selec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Foto de </a:t>
            </a:r>
            <a:r>
              <a:rPr b="0" lang="es-ES_tradnl" sz="1400" spc="-1" strike="noStrike" u="sng">
                <a:solidFill>
                  <a:srgbClr val="630000"/>
                </a:solidFill>
                <a:uFillTx/>
                <a:latin typeface="Tahoma"/>
                <a:hlinkClick r:id="rId2"/>
              </a:rPr>
              <a:t>Feminius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en flick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Y el aprendizaj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Marcador de contenido 8" descr="yo-nos-cualquiera.jpg"/>
          <p:cNvPicPr/>
          <p:nvPr/>
        </p:nvPicPr>
        <p:blipFill>
          <a:blip r:embed="rId1"/>
          <a:srcRect l="-18069" t="0" r="-18069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cap="rnd" w="9360">
            <a:solidFill>
              <a:srgbClr val="dddddd"/>
            </a:solidFill>
            <a:miter/>
          </a:ln>
        </p:spPr>
      </p:pic>
      <p:sp>
        <p:nvSpPr>
          <p:cNvPr id="108" name="Marcador de pie de página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omunidades de Pr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tic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447560"/>
            <a:ext cx="8229600" cy="49086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1079640" indent="-355680">
              <a:spcBef>
                <a:spcPts val="64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Grupo de personas que comparten una preocupación, un conjunto de problemas o un interés común acerca de un tema, y que profundizan en su conocimiento y pericia en esta área a través de una interacción continuada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"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1079640" indent="-355680" algn="r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Wenger, McDermott y Snyder (2002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079640" indent="-355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Comunidades virtuales de pr</a:t>
            </a:r>
            <a:r>
              <a:rPr b="0" lang="el-GR" sz="2600" spc="-1" strike="noStrike">
                <a:solidFill>
                  <a:srgbClr val="000000"/>
                </a:solidFill>
                <a:latin typeface="Tahoma"/>
              </a:rPr>
              <a:t>á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ctica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d de personas que comparten un área de interés sobre el que se comunican online, comparten recursos y mejoran su conocimiento en esa área y amplían el conocimiento de la comun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079640" indent="-355680" algn="r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annon_Learyy  Fontainha (200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omunidades de Pr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tic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Compartir y aprend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romiso mutu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artir conocimiento implica m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á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 que ser exper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mpresa conjun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tereses comunes, negociaci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. Signific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pertorio compart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s que se generan en su quehacer: frases, conceptos, s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í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bolos, herramient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Imagen 4" descr="cadena.jpg"/>
          <p:cNvPicPr/>
          <p:nvPr/>
        </p:nvPicPr>
        <p:blipFill>
          <a:blip r:embed="rId1"/>
          <a:stretch/>
        </p:blipFill>
        <p:spPr>
          <a:xfrm>
            <a:off x="5638680" y="1270080"/>
            <a:ext cx="30481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omunidades de Pr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tic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utorregulació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crean por una necesidad, no por una autorida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utogest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s estructuras no son jer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á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quicas, sino basadas en la experiencia y en la confianz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form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ecesitan calidad comunicación y confianz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rme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vatos y veteranos; grado de participaci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 divers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r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_tradnl" sz="2800" spc="-1" strike="noStrike">
                <a:solidFill>
                  <a:srgbClr val="630000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630000"/>
                </a:solidFill>
                <a:latin typeface="Tahoma"/>
              </a:rPr>
              <a:t>Aprendizaje informal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omunidades de Pr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tica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b">
            <a:normAutofit fontScale="8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Tahoma"/>
              </a:rPr>
              <a:t>Liderazgo y moderaci</a:t>
            </a:r>
            <a:r>
              <a:rPr b="1" lang="el-GR" sz="2000" spc="-1" strike="noStrike">
                <a:solidFill>
                  <a:srgbClr val="990000"/>
                </a:solidFill>
                <a:latin typeface="Tahoma"/>
              </a:rPr>
              <a:t>ó</a:t>
            </a:r>
            <a:r>
              <a:rPr b="1" lang="es-ES_tradnl" sz="2000" spc="-1" strike="noStrike">
                <a:solidFill>
                  <a:srgbClr val="990000"/>
                </a:solidFill>
                <a:latin typeface="Tahoma"/>
              </a:rPr>
              <a:t>n Coordinad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mover la participaci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estionar el intercambio de conteni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ervar los contenidos releva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iderazgo compartido, no form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s-ES_tradnl" sz="2000" spc="-1" strike="noStrike">
              <a:solidFill>
                <a:srgbClr val="990000"/>
              </a:solidFill>
              <a:latin typeface="Tahoma"/>
            </a:endParaRPr>
          </a:p>
        </p:txBody>
      </p:sp>
      <p:pic>
        <p:nvPicPr>
          <p:cNvPr id="123" name="Marcador de contenido 8" descr="cuerdas.jpg"/>
          <p:cNvPicPr/>
          <p:nvPr/>
        </p:nvPicPr>
        <p:blipFill>
          <a:blip r:embed="rId1"/>
          <a:srcRect l="0" t="-23608" r="0" b="-23608"/>
          <a:stretch/>
        </p:blipFill>
        <p:spPr>
          <a:xfrm>
            <a:off x="4645080" y="1768320"/>
            <a:ext cx="4041720" cy="3951360"/>
          </a:xfrm>
          <a:prstGeom prst="rect">
            <a:avLst/>
          </a:prstGeom>
          <a:ln cap="rnd" w="9360">
            <a:solidFill>
              <a:srgbClr val="dddddd"/>
            </a:solidFill>
            <a:miter/>
          </a:ln>
        </p:spPr>
      </p:pic>
      <p:sp>
        <p:nvSpPr>
          <p:cNvPr id="124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Diagrama 7" descr=""/>
          <p:cNvPicPr/>
          <p:nvPr/>
        </p:nvPicPr>
        <p:blipFill>
          <a:blip r:embed="rId1"/>
          <a:stretch/>
        </p:blipFill>
        <p:spPr>
          <a:xfrm>
            <a:off x="755640" y="1590840"/>
            <a:ext cx="819324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deraz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- Identificar temas importantes que deben tratarse en el ámbito de la CP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lanificar y facilitar las actividades de la CP.  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nectar informalmente a los miembros de la CP, superando los límites entre las unidades organizacionales, y gestionar los activos del conocimient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r el desarrollo de los miembros de la CP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Gestionar la frontera entre la CP y la organización formal, como por ejemplo los equipos y otras unidades organizacional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Ayudar a construir la práctica, incluyendo el conocimiento base, la experiencia adquirida, las mejores prácticas, las herramientas y los métodos, y las actividades de aprendizaj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alorar la salud de la CP y evaluar las contribuciones de los miembros a la organiz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Marcador de pie de página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Un caso para estudiar: Chir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6840" y="1600200"/>
            <a:ext cx="420372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Grupo de profesores de cl</a:t>
            </a:r>
            <a:r>
              <a:rPr b="0" lang="el-GR" sz="2600" spc="-1" strike="noStrike">
                <a:solidFill>
                  <a:srgbClr val="000000"/>
                </a:solidFill>
                <a:latin typeface="Tahoma"/>
              </a:rPr>
              <a:t>á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sicas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Dispersi</a:t>
            </a:r>
            <a:r>
              <a:rPr b="0" lang="el-GR" sz="26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Web com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ú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: </a:t>
            </a:r>
            <a:r>
              <a:rPr b="0" lang="es-ES_tradnl" sz="2400" spc="-1" strike="noStrike" u="sng">
                <a:solidFill>
                  <a:srgbClr val="630000"/>
                </a:solidFill>
                <a:uFillTx/>
                <a:latin typeface="Tahoma"/>
                <a:hlinkClick r:id="rId1"/>
              </a:rPr>
              <a:t>chironweb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maci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 en 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fensa de las cl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á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c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Marcador de contenido 6" descr="chironmosaico.gif"/>
          <p:cNvPicPr/>
          <p:nvPr/>
        </p:nvPicPr>
        <p:blipFill>
          <a:blip r:embed="rId2"/>
          <a:srcRect l="-2924" t="0" r="-2924" b="0"/>
          <a:stretch/>
        </p:blipFill>
        <p:spPr>
          <a:xfrm>
            <a:off x="5060880" y="1828800"/>
            <a:ext cx="3625920" cy="4064040"/>
          </a:xfrm>
          <a:prstGeom prst="rect">
            <a:avLst/>
          </a:prstGeom>
          <a:ln cap="rnd" w="9360">
            <a:solidFill>
              <a:srgbClr val="dddddd"/>
            </a:solidFill>
            <a:miter/>
          </a:ln>
        </p:spPr>
      </p:pic>
      <p:sp>
        <p:nvSpPr>
          <p:cNvPr id="131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hiron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Liderazgo compartido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Informal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Participantes centrales y perif</a:t>
            </a:r>
            <a:r>
              <a:rPr b="0" lang="el-GR" sz="2600" spc="-1" strike="noStrike">
                <a:solidFill>
                  <a:srgbClr val="000000"/>
                </a:solidFill>
                <a:latin typeface="Tahoma"/>
              </a:rPr>
              <a:t>é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rico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entauros soc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suarios gener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Expertos y novato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Marcador de contenido 5" descr="logotransparente.png"/>
          <p:cNvPicPr/>
          <p:nvPr/>
        </p:nvPicPr>
        <p:blipFill>
          <a:blip r:embed="rId1"/>
          <a:srcRect l="-34422" t="0" r="-34422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cap="rnd" w="9360">
            <a:solidFill>
              <a:srgbClr val="dddddd"/>
            </a:solidFill>
            <a:miter/>
          </a:ln>
        </p:spPr>
      </p:pic>
      <p:sp>
        <p:nvSpPr>
          <p:cNvPr id="135" name="Marcador de pie de pá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hiron 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09120" y="1600200"/>
            <a:ext cx="403884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Herramientas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Nace de los blog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Portal web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tios 2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des soci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Coordinaci</a:t>
            </a:r>
            <a:r>
              <a:rPr b="0" lang="el-GR" sz="26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n google group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Marcador de contenido 5" descr="aranitadechiron.png"/>
          <p:cNvPicPr/>
          <p:nvPr/>
        </p:nvPicPr>
        <p:blipFill>
          <a:blip r:embed="rId1"/>
          <a:srcRect l="0" t="-16002" r="0" b="-1600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cap="rnd" w="9360">
            <a:solidFill>
              <a:srgbClr val="dddddd"/>
            </a:solidFill>
            <a:miter/>
          </a:ln>
        </p:spPr>
      </p:pic>
      <p:sp>
        <p:nvSpPr>
          <p:cNvPr id="139" name="Marcador de pie de pá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rendizaje y C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128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aprendizaje no se puede diseñar: sólo se puede facilitar o frustrar”(Wenger 199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Comunidades de Práctica como sistemas de aprendizaje soc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Imagen 4" descr="racimo.jpg"/>
          <p:cNvPicPr/>
          <p:nvPr/>
        </p:nvPicPr>
        <p:blipFill>
          <a:blip r:embed="rId1"/>
          <a:stretch/>
        </p:blipFill>
        <p:spPr>
          <a:xfrm>
            <a:off x="4394160" y="3533760"/>
            <a:ext cx="467352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re todo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Marcador de contenido 4" descr="masfacil.jpg"/>
          <p:cNvPicPr/>
          <p:nvPr/>
        </p:nvPicPr>
        <p:blipFill>
          <a:blip r:embed="rId1">
            <a:alphaModFix amt="24000"/>
          </a:blip>
          <a:srcRect l="-6349" t="0" r="-6349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cap="rnd" w="9360">
            <a:solidFill>
              <a:srgbClr val="dddddd"/>
            </a:solidFill>
            <a:miter/>
          </a:ln>
        </p:spPr>
      </p:pic>
      <p:sp>
        <p:nvSpPr>
          <p:cNvPr id="146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ucació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Formal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stituciones educativa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tenidos curriculares, muy estructur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No formal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rganizaciones no académica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ecesidades formativas de un grup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Informal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a día, en el trabajo, en el ocio, con la famili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se planific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unidades de Práctica. Redes soci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rendiz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Aprendizaje permanente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prendizaje a lo largo de la vi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 los tránsit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 la educación formal (régimen ordinari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 la no formal (educación de adultos)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 la informal (web 2.0 y redes socia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 la combinación de la educación formal con el aprendizaje infor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Énfasis en lo competenc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etencia digital + competencia ciudadan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des sociales y educ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Redes Sociales son una oportunidad para construir aprendizajes que unan lo formal y lo inform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una sociedad que se comunica de otra manera,  hemos de comunicarnos de otra manera para enseñar y apren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Marcador de contenido 6" descr="tejiendo.jpg"/>
          <p:cNvPicPr/>
          <p:nvPr/>
        </p:nvPicPr>
        <p:blipFill>
          <a:blip r:embed="rId1"/>
          <a:srcRect l="0" t="-22010" r="0" b="-2201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cap="rnd" w="9360">
            <a:solidFill>
              <a:srgbClr val="dddddd"/>
            </a:solidFill>
            <a:miter/>
          </a:ln>
        </p:spPr>
      </p:pic>
      <p:sp>
        <p:nvSpPr>
          <p:cNvPr id="156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uadroTexto 7"/>
          <p:cNvSpPr/>
          <p:nvPr/>
        </p:nvSpPr>
        <p:spPr>
          <a:xfrm>
            <a:off x="5321160" y="5549760"/>
            <a:ext cx="273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oto de </a:t>
            </a:r>
            <a:r>
              <a:rPr b="0" lang="es-ES_tradnl" sz="1200" spc="-1" strike="noStrike" u="sng">
                <a:solidFill>
                  <a:srgbClr val="630000"/>
                </a:solidFill>
                <a:uFillTx/>
                <a:latin typeface="Arial"/>
                <a:hlinkClick r:id="rId2"/>
              </a:rPr>
              <a:t>lisascenic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en flick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aula física no basta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Marcador de contenido 4" descr="vocales2_0.png"/>
          <p:cNvPicPr/>
          <p:nvPr/>
        </p:nvPicPr>
        <p:blipFill>
          <a:blip r:embed="rId1"/>
          <a:srcRect l="-20704" t="0" r="-20704" b="0"/>
          <a:stretch/>
        </p:blipFill>
        <p:spPr>
          <a:xfrm>
            <a:off x="457200" y="1612800"/>
            <a:ext cx="8229600" cy="4525920"/>
          </a:xfrm>
          <a:prstGeom prst="rect">
            <a:avLst/>
          </a:prstGeom>
          <a:ln cap="rnd" w="9360">
            <a:solidFill>
              <a:srgbClr val="dddddd"/>
            </a:solidFill>
            <a:miter/>
          </a:ln>
        </p:spPr>
      </p:pic>
      <p:sp>
        <p:nvSpPr>
          <p:cNvPr id="160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uadroTexto 4"/>
          <p:cNvSpPr/>
          <p:nvPr/>
        </p:nvSpPr>
        <p:spPr>
          <a:xfrm>
            <a:off x="2921040" y="6211800"/>
            <a:ext cx="372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magen de </a:t>
            </a:r>
            <a:r>
              <a:rPr b="0" lang="es-ES_tradnl" sz="1400" spc="-1" strike="noStrike" u="sng">
                <a:solidFill>
                  <a:srgbClr val="630000"/>
                </a:solidFill>
                <a:uFillTx/>
                <a:latin typeface="Arial"/>
                <a:hlinkClick r:id="rId2"/>
              </a:rPr>
              <a:t>Prrofesor</a:t>
            </a:r>
            <a:r>
              <a:rPr b="0" lang="es-ES_tradnl" sz="1400" spc="-1" strike="noStrike" u="sng">
                <a:solidFill>
                  <a:srgbClr val="630000"/>
                </a:solidFill>
                <a:uFillTx/>
                <a:latin typeface="Arial"/>
                <a:hlinkClick r:id="rId3"/>
              </a:rPr>
              <a:t> </a:t>
            </a:r>
            <a:r>
              <a:rPr b="0" lang="es-ES_tradnl" sz="1400" spc="-1" strike="noStrike" u="sng">
                <a:solidFill>
                  <a:srgbClr val="630000"/>
                </a:solidFill>
                <a:uFillTx/>
                <a:latin typeface="Arial"/>
                <a:hlinkClick r:id="rId4"/>
              </a:rPr>
              <a:t>Potachov</a:t>
            </a:r>
            <a:r>
              <a:rPr b="0" lang="es-ES_tradnl" sz="1400" spc="-1" strike="noStrike" u="sng">
                <a:solidFill>
                  <a:srgbClr val="630000"/>
                </a:solidFill>
                <a:uFillTx/>
                <a:latin typeface="Arial"/>
                <a:hlinkClick r:id="rId5"/>
              </a:rPr>
              <a:t> de Moldav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es soci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09120" y="1600200"/>
            <a:ext cx="4038840" cy="4525920"/>
          </a:xfrm>
          <a:prstGeom prst="rect">
            <a:avLst/>
          </a:prstGeom>
          <a:solidFill>
            <a:srgbClr val="d9d9d9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 Unicode MS"/>
              </a:rPr>
              <a:t>Ὁ ἄνθρωπος φύσει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 Unicode MS"/>
              </a:rPr>
              <a:t>ζῷον πολιτικόν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Aristótel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901760" y="1600200"/>
            <a:ext cx="378468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magen 4" descr="800px-Sanzio_01_Plato_Aristotle.jpg"/>
          <p:cNvPicPr/>
          <p:nvPr/>
        </p:nvPicPr>
        <p:blipFill>
          <a:blip r:embed="rId1"/>
          <a:stretch/>
        </p:blipFill>
        <p:spPr>
          <a:xfrm>
            <a:off x="5340240" y="2052720"/>
            <a:ext cx="290844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tecnología no bas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Marcador de contenido 4" descr="innoveision.gif"/>
          <p:cNvPicPr/>
          <p:nvPr/>
        </p:nvPicPr>
        <p:blipFill>
          <a:blip r:embed="rId1"/>
          <a:srcRect l="-10600" t="0" r="-1060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cap="rnd" w="9360">
            <a:solidFill>
              <a:srgbClr val="dddddd"/>
            </a:solidFill>
            <a:miter/>
          </a:ln>
        </p:spPr>
      </p:pic>
      <p:sp>
        <p:nvSpPr>
          <p:cNvPr id="164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uadroTexto 4"/>
          <p:cNvSpPr/>
          <p:nvPr/>
        </p:nvSpPr>
        <p:spPr>
          <a:xfrm>
            <a:off x="2895480" y="6126120"/>
            <a:ext cx="387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n de </a:t>
            </a:r>
            <a:r>
              <a:rPr b="0" lang="en-US" sz="1400" spc="-1" strike="noStrike" u="sng">
                <a:solidFill>
                  <a:srgbClr val="630000"/>
                </a:solidFill>
                <a:uFillTx/>
                <a:latin typeface="Arial"/>
                <a:hlinkClick r:id="rId2"/>
              </a:rPr>
              <a:t>Prrofesor Potachov de Moldav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factor hum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a información está a nuestra disposición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a interrelación y la comunicación se flexibilizan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¿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Qué es enseñar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- Facilitar el acceso a la informació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ahom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Guiar en los procesos de comunicación e interacción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ahom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rientar para construir aprendizaje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factor hum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Marcador de contenido 5" descr=""/>
          <p:cNvPicPr/>
          <p:nvPr/>
        </p:nvPicPr>
        <p:blipFill>
          <a:blip r:embed="rId1"/>
          <a:stretch/>
        </p:blipFill>
        <p:spPr>
          <a:xfrm>
            <a:off x="450720" y="1560600"/>
            <a:ext cx="8242560" cy="4627440"/>
          </a:xfrm>
          <a:prstGeom prst="rect">
            <a:avLst/>
          </a:prstGeom>
          <a:ln cap="rnd" w="9360">
            <a:solidFill>
              <a:srgbClr val="dddddd"/>
            </a:solidFill>
            <a:miter/>
          </a:ln>
        </p:spPr>
      </p:pic>
      <p:sp>
        <p:nvSpPr>
          <p:cNvPr id="171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uadroTexto 6"/>
          <p:cNvSpPr/>
          <p:nvPr/>
        </p:nvSpPr>
        <p:spPr>
          <a:xfrm>
            <a:off x="2209680" y="1841400"/>
            <a:ext cx="11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d9d9d9"/>
                </a:solidFill>
                <a:latin typeface="Arial"/>
              </a:rPr>
              <a:t>Lo que yo te puedo enseñ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uadroTexto 7"/>
          <p:cNvSpPr/>
          <p:nvPr/>
        </p:nvSpPr>
        <p:spPr>
          <a:xfrm>
            <a:off x="5829480" y="49579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d9d9d9"/>
                </a:solidFill>
                <a:latin typeface="Arial"/>
              </a:rPr>
              <a:t>Lo que tú necesitas apr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cente como líd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unciones de liderazgo como las del coordinador de una comunidad de práctica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dentificar temas importantes que deben tratarse en el ámbito de la CP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nificar y facilitar las actividades de la CP.  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ectar informalmente a los miembros de la CP, superando los límites entre las unidades organizacionales, y gestionar los activos del conocimient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tenciar el desarrollo de los miembros de la CP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stionar la frontera entre la CP y la organización formal, como por ejemplo los equipos y otras unidades organizacional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yudar a construir la práctica, incluyendo el conocimiento base, la experiencia adquirida, las mejores prácticas, las herramientas y los métodos, y las actividades de aprendizaj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lorar la salud de la CP y evaluar las contribuciones de los miembros a la organiz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es sociales más usuale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o educativo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7563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ceboo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2"/>
              </a:rPr>
              <a:t>www.educacontic.es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3"/>
              </a:rPr>
              <a:t>/blog/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4"/>
              </a:rPr>
              <a:t>facebook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5"/>
              </a:rPr>
              <a:t>-en-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6"/>
              </a:rPr>
              <a:t>educac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uent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7"/>
              </a:rPr>
              <a:t>http://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8"/>
              </a:rPr>
              <a:t>innovandoef.wordpress.com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9"/>
              </a:rPr>
              <a:t>/2009/12/09/uso-educativo-de-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10"/>
              </a:rPr>
              <a:t>tuenti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11"/>
              </a:rPr>
              <a:t>-en-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12"/>
              </a:rPr>
              <a:t>educacion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13"/>
              </a:rPr>
              <a:t>-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14"/>
              </a:rPr>
              <a:t>fisica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15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witt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16"/>
              </a:rPr>
              <a:t>http://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17"/>
              </a:rPr>
              <a:t>dimglobal.ning.com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18"/>
              </a:rPr>
              <a:t>/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19"/>
              </a:rPr>
              <a:t>profiles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20"/>
              </a:rPr>
              <a:t>/blogs/usos-educativos-de-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21"/>
              </a:rPr>
              <a:t>twi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22"/>
              </a:rPr>
              <a:t>http://jjdeharo.blogspot.com/2008/11/aplicacin-de-ning-la-educaci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23"/>
              </a:rPr>
              <a:t>http://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24"/>
              </a:rPr>
              <a:t>reflexionesenelearning.blogspot.com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25"/>
              </a:rPr>
              <a:t>/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26"/>
              </a:rPr>
              <a:t>search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27"/>
              </a:rPr>
              <a:t>/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28"/>
              </a:rPr>
              <a:t>label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29"/>
              </a:rPr>
              <a:t>/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Learning 2.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Del conocimiento elaborado por unos pocos expertos a formas colaborativas de construcción de conocimient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Aprovechar los flujos de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aprendizaje en Redes sociale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Diseñar un proceso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más inmersivo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Learning by doing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Imagen 4" descr="explorar.jpg"/>
          <p:cNvPicPr/>
          <p:nvPr/>
        </p:nvPicPr>
        <p:blipFill>
          <a:blip r:embed="rId1"/>
          <a:stretch/>
        </p:blipFill>
        <p:spPr>
          <a:xfrm>
            <a:off x="5549760" y="3086280"/>
            <a:ext cx="3594240" cy="3270240"/>
          </a:xfrm>
          <a:prstGeom prst="rect">
            <a:avLst/>
          </a:prstGeom>
          <a:ln w="0">
            <a:noFill/>
          </a:ln>
        </p:spPr>
      </p:pic>
      <p:sp>
        <p:nvSpPr>
          <p:cNvPr id="184" name="CuadroTexto 5"/>
          <p:cNvSpPr/>
          <p:nvPr/>
        </p:nvSpPr>
        <p:spPr>
          <a:xfrm>
            <a:off x="6019920" y="635652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oto de Ignacio Conejo en flick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orno personal de aprendiz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Conjunto de recursos que usa cada uno de nosotros para aprender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Parte de las necesidades reales y de cómo las resolvemos en cada contexto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Incluye el aprendizaje informal en redes sociales, el uso de los servicios web 2.0, las aulas virtuales y cualquier otro instrumento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Nos ayuda a delimitar nuestra identidad digital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Vinculado a nuestro e-portfolio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E +PL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Marcador de contenido 4" descr="ple.jpg"/>
          <p:cNvPicPr/>
          <p:nvPr/>
        </p:nvPicPr>
        <p:blipFill>
          <a:blip r:embed="rId1"/>
          <a:srcRect l="-18181" t="0" r="-18181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cap="rnd" w="9360">
            <a:solidFill>
              <a:srgbClr val="dddddd"/>
            </a:solidFill>
            <a:miter/>
          </a:ln>
        </p:spPr>
      </p:pic>
      <p:sp>
        <p:nvSpPr>
          <p:cNvPr id="190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onclusi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ahoma"/>
              </a:rPr>
              <a:t>Nativos digitales y redes sociales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. ¿saben usar </a:t>
            </a:r>
            <a:r>
              <a:rPr b="1" lang="es-ES_tradnl" sz="2600" spc="-1" strike="noStrike">
                <a:solidFill>
                  <a:srgbClr val="000000"/>
                </a:solidFill>
                <a:latin typeface="Tahoma"/>
              </a:rPr>
              <a:t>la web 2.0 para aprender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? ¿Controlan su </a:t>
            </a:r>
            <a:r>
              <a:rPr b="1" lang="es-ES_tradnl" sz="2600" spc="-1" strike="noStrike">
                <a:solidFill>
                  <a:srgbClr val="000000"/>
                </a:solidFill>
                <a:latin typeface="Tahoma"/>
              </a:rPr>
              <a:t>identidad digital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 cuando usan las redes sociales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Una clase en Ning </a:t>
            </a:r>
            <a:r>
              <a:rPr b="1" lang="es-ES_tradnl" sz="2600" spc="-1" strike="noStrike">
                <a:solidFill>
                  <a:srgbClr val="000000"/>
                </a:solidFill>
                <a:latin typeface="Tahoma"/>
              </a:rPr>
              <a:t>¿realmente se diferencia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 de una clase en Moodle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¿Qué aprendizaje en redes sociales </a:t>
            </a:r>
            <a:r>
              <a:rPr b="1" lang="es-ES_tradnl" sz="2600" spc="-1" strike="noStrike">
                <a:solidFill>
                  <a:srgbClr val="000000"/>
                </a:solidFill>
                <a:latin typeface="Tahoma"/>
              </a:rPr>
              <a:t>es E-learning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PRESENTACIÓN DEL MÓDULO TOL-US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898989"/>
              </a:solidFill>
              <a:latin typeface="Tahoma"/>
            </a:endParaRPr>
          </a:p>
        </p:txBody>
      </p:sp>
      <p:sp>
        <p:nvSpPr>
          <p:cNvPr id="196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Imagen 7" descr="Logotipo TOL photoshop.jpg"/>
          <p:cNvPicPr/>
          <p:nvPr/>
        </p:nvPicPr>
        <p:blipFill>
          <a:blip r:embed="rId1"/>
          <a:stretch/>
        </p:blipFill>
        <p:spPr>
          <a:xfrm>
            <a:off x="2693880" y="1247760"/>
            <a:ext cx="332604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es Soci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De la polis…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a la aldea global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Marcador de pie de pá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magen 9" descr="ostraka2.jpg.JPG"/>
          <p:cNvPicPr/>
          <p:nvPr/>
        </p:nvPicPr>
        <p:blipFill>
          <a:blip r:embed="rId1"/>
          <a:stretch/>
        </p:blipFill>
        <p:spPr>
          <a:xfrm>
            <a:off x="915840" y="3289320"/>
            <a:ext cx="3246480" cy="2320920"/>
          </a:xfrm>
          <a:prstGeom prst="rect">
            <a:avLst/>
          </a:prstGeom>
          <a:ln w="0">
            <a:noFill/>
          </a:ln>
        </p:spPr>
      </p:pic>
      <p:pic>
        <p:nvPicPr>
          <p:cNvPr id="69" name="Imagen 10" descr="m-learnin.png"/>
          <p:cNvPicPr/>
          <p:nvPr/>
        </p:nvPicPr>
        <p:blipFill>
          <a:blip r:embed="rId2"/>
          <a:stretch/>
        </p:blipFill>
        <p:spPr>
          <a:xfrm>
            <a:off x="5410080" y="2262240"/>
            <a:ext cx="349884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n qué consist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Cinco semanas de formación intensiva sobre tutoría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onlin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Formación más práctica que teóric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Basado en el aprendizaje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por 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competencias y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en 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competenci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Curso de alta interacción y trabajo en grup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Intensa labor del equipo de tutor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Se requiere disciplina y constancia en el trabaj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El curso es extremadamente motivado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79360" y="1422360"/>
            <a:ext cx="4216320" cy="47037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Semana 1:  </a:t>
            </a:r>
            <a:r>
              <a:rPr b="1" i="1" lang="es-ES_tradnl" sz="1100" spc="-1" strike="noStrike">
                <a:solidFill>
                  <a:srgbClr val="000000"/>
                </a:solidFill>
                <a:latin typeface="Tahoma"/>
              </a:rPr>
              <a:t>Concepto de e-learning e introducción a la tutoría online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Descripción del concepto de </a:t>
            </a:r>
            <a:r>
              <a:rPr b="0" i="1" lang="es-ES_tradnl" sz="1100" spc="-1" strike="noStrike">
                <a:solidFill>
                  <a:srgbClr val="000000"/>
                </a:solidFill>
                <a:latin typeface="Tahoma"/>
              </a:rPr>
              <a:t>e-learnin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Naturaleza de la función tutorial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Roles y perfiles de tutoría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Competencias y destrezas del tutor virtual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Ámbitos de aplicación y casos de estudio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Semana 2</a:t>
            </a: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s-ES_tradnl" sz="1100" spc="-1" strike="noStrike">
                <a:solidFill>
                  <a:srgbClr val="000000"/>
                </a:solidFill>
                <a:latin typeface="Tahoma"/>
              </a:rPr>
              <a:t>Uso eficiente de las herramientas a disposición de un tutor virtual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Catálogo de herramientas y utilidades más habituales para un tutor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Aplicaciones didácticas de estas herramientas a contextos formativos diverso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Simulación de situaciones formativas diferentes para adopción de las herramientas adecuada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Consejos prácticos de utilización, precauciones contra mal uso o uso ineficiente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Semana 3:</a:t>
            </a: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s-ES_tradnl" sz="1100" spc="-1" strike="noStrike">
                <a:solidFill>
                  <a:srgbClr val="000000"/>
                </a:solidFill>
                <a:latin typeface="Tahoma"/>
              </a:rPr>
              <a:t>Dinámicas de comunicación e interacción en contextos virtuale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Contextos y modalidades de comunicación: casos práctico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Habilidades de liderazgo, motivación y persuasión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48320" y="1422360"/>
            <a:ext cx="4216320" cy="47037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 fontScale="97000"/>
          </a:bodyPr>
          <a:p>
            <a:pPr marL="332640" indent="-1602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Perfiles de alumnado y roles de comunicación: qué hacer y cómo hacer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2640" indent="-1602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Estrategias para la solución de problemas (inactividad, conflictos, malos entendidos…)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2640" indent="-1602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Simulación de situaciones y juego de rol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2640" indent="-160200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2640" indent="-160200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Semana 4:</a:t>
            </a: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s-ES_tradnl" sz="1100" spc="-1" strike="noStrike">
                <a:solidFill>
                  <a:srgbClr val="000000"/>
                </a:solidFill>
                <a:latin typeface="Tahoma"/>
              </a:rPr>
              <a:t>Gestión y evaluación de actividades formativa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2640" indent="-1602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Adaptación de actividades a competencias y destrezas predefinida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2640" indent="-1602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Secuenciación y planificación de la carga y la tipología de las actividades según el tipo de contenido formativo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2640" indent="-1602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Evaluación de actividades, evaluación de la interacción y evaluación continua.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2640" indent="-1602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Autoevaluación y heteroevaluación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2640" indent="-1602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Desarrollo de casos prácticos y simulación de situaciones formativas concreta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2640" indent="-160200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2640" indent="-160200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Semana 5:</a:t>
            </a: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s-ES_tradnl" sz="1100" spc="-1" strike="noStrike">
                <a:solidFill>
                  <a:srgbClr val="000000"/>
                </a:solidFill>
                <a:latin typeface="Tahoma"/>
              </a:rPr>
              <a:t>Diseño de actividades formativas y control de la calidad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2640" indent="-1602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Nociones básicas de diseño instruccional aplicado a la labor tutorial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2640" indent="-1602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Elementos y criterios de control de calidad de actividades formativas autorizada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2640" indent="-1602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Diseño e implementación de una iniciativa formativa piloto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etodología (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Estrategias metodológicas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onlin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teriales de trabajo disponibles en el SGA US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 de actividades claro y preciso, día por d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ctividades prácticas (individuales y en grup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valuación continu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rientación hacia la práctica de situaciones reales de tutor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prender hacien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Marcador de pie de pá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etodología (i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Instrumentos metodológicos y de evaluació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so de la comunicación asíncrona a través del SGA de la USAL (foros y herramientas de trabajo en grup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alización de casos prácticos con situaciones “reale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alización de ensayos-informe finales por un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esta en práctica de los roles de tutoría desde el primer d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Marcador de pie de pá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anual de superviv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Qué se espera de vosotro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Mantén una actitud participativa y colaborativ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Trabaja en grup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Reflexiona, critica, discute, pero contribuye a la solución de los problem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Trabaja de la manera más constante posible (± 2h/día) pero sin necesidad de horarios fijos </a:t>
            </a:r>
            <a:r>
              <a:rPr b="1" lang="es-ES_tradnl" sz="2200" spc="-1" strike="noStrike">
                <a:solidFill>
                  <a:srgbClr val="ff0000"/>
                </a:solidFill>
                <a:latin typeface="Tahoma"/>
              </a:rPr>
              <a:t>(!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No dudes en preguntar, individualmente o en grup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Créetelo: tienes mucho que aportar, tanto o más que apren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Actúa como tutor desde el primer día, no sólo como alumno. Aprende a andar… andand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Información prác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Fechas: del 25 de abril al 27 de mayo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Lugar: http://grial.usal.es/poli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¿Dudas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tacta con el Cap. Mayoral (AC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 con Antón Seoane (aseoane@usal.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Resuelve cualquier duda con los tutores de la unidad  a la mayor breveda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600" spc="-1" strike="noStrike" u="sng">
                <a:solidFill>
                  <a:srgbClr val="000000"/>
                </a:solidFill>
                <a:uFillTx/>
                <a:latin typeface="Tahoma"/>
              </a:rPr>
              <a:t>Comunica incidencias lo antes posible 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(ausencias, dificultades para seguir una unidad) para que se te ofrezcan soluciones alternativ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lgunos vídeo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Estos vídeos están disponibles para tu consulta en el SGA USAL “Pólis”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cceso al sist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aveg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rsonaliza tu perf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teracción con el S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4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88560" y="3225960"/>
            <a:ext cx="8978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666666"/>
                </a:solidFill>
                <a:latin typeface="Tahoma"/>
              </a:rPr>
              <a:t>GRupo de Investigación en InterAcción y eLearning (GRIA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666666"/>
                </a:solidFill>
                <a:latin typeface="Tahoma"/>
              </a:rPr>
              <a:t>Universidad de Salamanc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Subtítulo 2"/>
          <p:cNvSpPr/>
          <p:nvPr/>
        </p:nvSpPr>
        <p:spPr>
          <a:xfrm>
            <a:off x="825480" y="5994360"/>
            <a:ext cx="6794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666666"/>
                </a:solidFill>
                <a:latin typeface="Tahoma"/>
                <a:ea typeface="Tahoma"/>
              </a:rPr>
              <a:t>Academia de Logística del Ejército de Tierra (ACLO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500" spc="-1" strike="noStrike">
                <a:solidFill>
                  <a:srgbClr val="666666"/>
                </a:solidFill>
                <a:latin typeface="Tahoma"/>
                <a:ea typeface="Tahoma"/>
              </a:rPr>
              <a:t>Calatayud</a:t>
            </a:r>
            <a:r>
              <a:rPr b="0" lang="es-ES_tradnl" sz="1400" spc="-1" strike="noStrike">
                <a:solidFill>
                  <a:srgbClr val="666666"/>
                </a:solidFill>
                <a:latin typeface="Tahoma"/>
                <a:ea typeface="Tahoma"/>
              </a:rPr>
              <a:t>, 11 de noviembre de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n 4" descr="459px-Escudo_del_Ejército_de_Tierra.svg.png"/>
          <p:cNvPicPr/>
          <p:nvPr/>
        </p:nvPicPr>
        <p:blipFill>
          <a:blip r:embed="rId1"/>
          <a:stretch/>
        </p:blipFill>
        <p:spPr>
          <a:xfrm>
            <a:off x="8002440" y="5311800"/>
            <a:ext cx="1103400" cy="1440000"/>
          </a:xfrm>
          <a:prstGeom prst="rect">
            <a:avLst/>
          </a:prstGeom>
          <a:ln w="0">
            <a:noFill/>
          </a:ln>
        </p:spPr>
      </p:pic>
      <p:pic>
        <p:nvPicPr>
          <p:cNvPr id="224" name="Imagen 5" descr="aclog.gif"/>
          <p:cNvPicPr/>
          <p:nvPr/>
        </p:nvPicPr>
        <p:blipFill>
          <a:blip r:embed="rId2"/>
          <a:stretch/>
        </p:blipFill>
        <p:spPr>
          <a:xfrm>
            <a:off x="6867360" y="5311800"/>
            <a:ext cx="1070280" cy="1440000"/>
          </a:xfrm>
          <a:prstGeom prst="rect">
            <a:avLst/>
          </a:prstGeom>
          <a:ln w="0">
            <a:noFill/>
          </a:ln>
        </p:spPr>
      </p:pic>
      <p:pic>
        <p:nvPicPr>
          <p:cNvPr id="225" name="Imagen 8" descr="Escudo_piedra_SMA.gif"/>
          <p:cNvPicPr/>
          <p:nvPr/>
        </p:nvPicPr>
        <p:blipFill>
          <a:blip r:embed="rId3"/>
          <a:stretch/>
        </p:blipFill>
        <p:spPr>
          <a:xfrm>
            <a:off x="104760" y="5311800"/>
            <a:ext cx="1441440" cy="1440000"/>
          </a:xfrm>
          <a:prstGeom prst="rect">
            <a:avLst/>
          </a:prstGeom>
          <a:ln w="0">
            <a:noFill/>
          </a:ln>
        </p:spPr>
      </p:pic>
      <p:pic>
        <p:nvPicPr>
          <p:cNvPr id="226" name="Imagen 9" descr="88x31.png"/>
          <p:cNvPicPr/>
          <p:nvPr/>
        </p:nvPicPr>
        <p:blipFill>
          <a:blip r:embed="rId4"/>
          <a:stretch/>
        </p:blipFill>
        <p:spPr>
          <a:xfrm>
            <a:off x="4013280" y="5221440"/>
            <a:ext cx="1117440" cy="393480"/>
          </a:xfrm>
          <a:prstGeom prst="rect">
            <a:avLst/>
          </a:prstGeom>
          <a:ln w="0">
            <a:noFill/>
          </a:ln>
        </p:spPr>
      </p:pic>
      <p:sp>
        <p:nvSpPr>
          <p:cNvPr id="227" name="CuadroTexto 8"/>
          <p:cNvSpPr/>
          <p:nvPr/>
        </p:nvSpPr>
        <p:spPr>
          <a:xfrm>
            <a:off x="3568680" y="2692440"/>
            <a:ext cx="17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630000"/>
                </a:solidFill>
                <a:latin typeface="Arial"/>
              </a:rPr>
              <a:t>Gra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es Soci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419112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Nuestra identidad es socia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terrelación entre nuestra identidad personal y la dimensión social de nuestra vid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prendizaje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de las habilidades soci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¿Qué ha cambiado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cial Media, software social, SRS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" name="Marcador de contenido 8" descr="telaraña.jpg"/>
          <p:cNvPicPr/>
          <p:nvPr/>
        </p:nvPicPr>
        <p:blipFill>
          <a:blip r:embed="rId1"/>
          <a:srcRect l="-1616" t="0" r="-1616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cap="rnd" w="9360">
            <a:solidFill>
              <a:srgbClr val="dddddd"/>
            </a:solidFill>
            <a:miter/>
          </a:ln>
        </p:spPr>
      </p:pic>
      <p:sp>
        <p:nvSpPr>
          <p:cNvPr id="73" name="Marcador de pie de pá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olu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De BBS y USENET (1980)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La blogosfera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logs conect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lksonom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mes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cnología de software soci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Marcador de pie de pá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agen 6" descr="blogosfera.gif"/>
          <p:cNvPicPr/>
          <p:nvPr/>
        </p:nvPicPr>
        <p:blipFill>
          <a:blip r:embed="rId1"/>
          <a:stretch/>
        </p:blipFill>
        <p:spPr>
          <a:xfrm>
            <a:off x="3933720" y="2133720"/>
            <a:ext cx="4572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icios de Redes Soc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nteracción social + IP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municació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munida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operació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n que las personas se relacionen por una afinidad, compartan información, amplíen su círculo de amistades y realicen actividades jun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Imagen 4" descr="madeja.jpg"/>
          <p:cNvPicPr/>
          <p:nvPr/>
        </p:nvPicPr>
        <p:blipFill>
          <a:blip r:embed="rId1"/>
          <a:stretch/>
        </p:blipFill>
        <p:spPr>
          <a:xfrm>
            <a:off x="5497560" y="1790640"/>
            <a:ext cx="25876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la red 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7563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Disponemos de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Perfil público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ivac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Vínculos sociales primario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miliares, amigos o conocidos en pres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Vínculos sociales derivado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Los amigos de mis amigos son mis amigo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oría de los Seis Grados de Sepa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agen 4" descr="escalera6.jpg"/>
          <p:cNvPicPr/>
          <p:nvPr/>
        </p:nvPicPr>
        <p:blipFill>
          <a:blip r:embed="rId1"/>
          <a:stretch/>
        </p:blipFill>
        <p:spPr>
          <a:xfrm>
            <a:off x="6019920" y="1752480"/>
            <a:ext cx="209844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Marcador de contenido 4" descr="reglas-vida social.jpg"/>
          <p:cNvPicPr/>
          <p:nvPr/>
        </p:nvPicPr>
        <p:blipFill>
          <a:blip r:embed="rId1"/>
          <a:srcRect l="-507" t="0" r="-507" b="0"/>
          <a:stretch/>
        </p:blipFill>
        <p:spPr>
          <a:xfrm>
            <a:off x="457200" y="1587600"/>
            <a:ext cx="8229600" cy="4525920"/>
          </a:xfrm>
          <a:prstGeom prst="rect">
            <a:avLst/>
          </a:prstGeom>
          <a:ln cap="rnd" w="9360">
            <a:solidFill>
              <a:srgbClr val="dddddd"/>
            </a:solidFill>
            <a:miter/>
          </a:ln>
        </p:spPr>
      </p:pic>
      <p:sp>
        <p:nvSpPr>
          <p:cNvPr id="88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18:29:00Z</dcterms:created>
  <dc:creator>Antón Seoane</dc:creator>
  <dc:description/>
  <dc:language>en-US</dc:language>
  <cp:lastModifiedBy>Olga Diez</cp:lastModifiedBy>
  <cp:lastPrinted>2011-04-03T19:22:00Z</cp:lastPrinted>
  <dcterms:modified xsi:type="dcterms:W3CDTF">2011-04-03T19:31:35Z</dcterms:modified>
  <cp:revision>61</cp:revision>
  <dc:subject/>
  <dc:title>El futuro del eLearning Tutor online 2.0</dc:title>
</cp:coreProperties>
</file>